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1F21-3E62-4B1A-B457-094BF1E92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93A6-DE54-4F59-98A9-319F2479E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20F2-532D-4A7C-930F-65E19BE1B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C1ED-F23D-492E-9EE5-056DA20E1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1F49-7742-4F08-8CA3-F95076C54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D9AE-A77B-4A8C-BAFC-7441A27AD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4145-3130-43BF-AC4C-A4AD43502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437D-268F-4EA2-AAB2-40A4BF91A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E7C9-88A0-4B15-82A4-D457DB584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C865-6D06-49DF-8A49-07A763F6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A06B-98FF-42D7-8D6A-46CB474D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B4F7-2D2A-49BE-B60F-001C2549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48DA2-F28B-462D-8FE9-152BAD108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0920" y="72396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Lo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247680" y="719280"/>
            <a:ext cx="1587600" cy="1596960"/>
          </a:xfrm>
          <a:custGeom>
            <a:avLst/>
            <a:gdLst/>
            <a:ahLst/>
            <a:rect l="l" t="t" r="r" b="b"/>
            <a:pathLst>
              <a:path w="1000" h="1006">
                <a:moveTo>
                  <a:pt x="0" y="994"/>
                </a:moveTo>
                <a:lnTo>
                  <a:pt x="0" y="505"/>
                </a:lnTo>
                <a:lnTo>
                  <a:pt x="251" y="504"/>
                </a:lnTo>
                <a:lnTo>
                  <a:pt x="249" y="754"/>
                </a:lnTo>
                <a:lnTo>
                  <a:pt x="113" y="753"/>
                </a:lnTo>
                <a:lnTo>
                  <a:pt x="113" y="3"/>
                </a:lnTo>
                <a:lnTo>
                  <a:pt x="1000" y="0"/>
                </a:lnTo>
                <a:lnTo>
                  <a:pt x="999" y="1005"/>
                </a:lnTo>
                <a:lnTo>
                  <a:pt x="3" y="100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120" y="150336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680" y="17701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0680" y="14382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1120" y="1690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0000" y="19270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9000" y="11793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55960" y="7430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482920" y="69372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Collinear p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2467080" y="689040"/>
            <a:ext cx="1600200" cy="1596960"/>
          </a:xfrm>
          <a:custGeom>
            <a:avLst/>
            <a:gdLst/>
            <a:ahLst/>
            <a:rect l="l" t="t" r="r" b="b"/>
            <a:pathLst>
              <a:path w="1008" h="1006">
                <a:moveTo>
                  <a:pt x="21" y="985"/>
                </a:moveTo>
                <a:lnTo>
                  <a:pt x="21" y="502"/>
                </a:lnTo>
                <a:lnTo>
                  <a:pt x="259" y="504"/>
                </a:lnTo>
                <a:lnTo>
                  <a:pt x="257" y="754"/>
                </a:lnTo>
                <a:lnTo>
                  <a:pt x="0" y="757"/>
                </a:lnTo>
                <a:lnTo>
                  <a:pt x="0" y="1"/>
                </a:lnTo>
                <a:lnTo>
                  <a:pt x="1008" y="0"/>
                </a:lnTo>
                <a:lnTo>
                  <a:pt x="1007" y="1005"/>
                </a:lnTo>
                <a:lnTo>
                  <a:pt x="11" y="100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62040" y="147312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6680" y="17398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22680" y="1407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13120" y="16606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72000" y="18972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16400" y="11494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87960" y="712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65280" y="186696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948360" y="620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Collinear p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6927840" y="608040"/>
            <a:ext cx="1587600" cy="1604880"/>
          </a:xfrm>
          <a:custGeom>
            <a:avLst/>
            <a:gdLst/>
            <a:ahLst/>
            <a:rect l="l" t="t" r="r" b="b"/>
            <a:pathLst>
              <a:path w="1000" h="1011">
                <a:moveTo>
                  <a:pt x="258" y="1002"/>
                </a:moveTo>
                <a:lnTo>
                  <a:pt x="262" y="508"/>
                </a:lnTo>
                <a:lnTo>
                  <a:pt x="506" y="509"/>
                </a:lnTo>
                <a:lnTo>
                  <a:pt x="504" y="759"/>
                </a:lnTo>
                <a:lnTo>
                  <a:pt x="238" y="762"/>
                </a:lnTo>
                <a:lnTo>
                  <a:pt x="240" y="630"/>
                </a:lnTo>
                <a:lnTo>
                  <a:pt x="0" y="630"/>
                </a:lnTo>
                <a:lnTo>
                  <a:pt x="4" y="6"/>
                </a:lnTo>
                <a:lnTo>
                  <a:pt x="1000" y="0"/>
                </a:lnTo>
                <a:lnTo>
                  <a:pt x="1000" y="1000"/>
                </a:lnTo>
                <a:lnTo>
                  <a:pt x="258" y="1011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99360" y="15922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72440" y="1666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88440" y="13352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778880" y="1587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37760" y="18241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47160" y="1690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961320" y="844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331040" y="17938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143840" y="1533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24000" y="3441600"/>
          <a:ext cx="1584000" cy="1984320"/>
        </p:xfrm>
        <a:graphic>
          <a:graphicData uri="http://schemas.openxmlformats.org/drawingml/2006/table">
            <a:tbl>
              <a:tblPr/>
              <a:tblGrid>
                <a:gridCol w="39492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Outer lo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1249560" y="45514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3600" y="48196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6760" y="4962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5000" y="48196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355760" y="34513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25400" y="46148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71760" y="4087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627280" y="3429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Left,right loo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 flipV="1">
            <a:off x="3021120" y="4220640"/>
            <a:ext cx="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38400" y="4219560"/>
            <a:ext cx="165240" cy="3240"/>
          </a:xfrm>
          <a:custGeom>
            <a:avLst/>
            <a:gdLst/>
            <a:ahLst/>
            <a:rect l="l" t="t" r="r" b="b"/>
            <a:pathLst>
              <a:path w="104" h="2">
                <a:moveTo>
                  <a:pt x="0" y="0"/>
                </a:moveTo>
                <a:lnTo>
                  <a:pt x="104" y="2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2480" bIns="-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03640" y="4221000"/>
            <a:ext cx="0" cy="216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28880" y="4433760"/>
            <a:ext cx="374760" cy="3240"/>
          </a:xfrm>
          <a:custGeom>
            <a:avLst/>
            <a:gdLst/>
            <a:ahLst/>
            <a:rect l="l" t="t" r="r" b="b"/>
            <a:pathLst>
              <a:path w="236" h="2">
                <a:moveTo>
                  <a:pt x="236" y="2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2480" bIns="-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624120"/>
            <a:ext cx="1440" cy="809640"/>
          </a:xfrm>
          <a:custGeom>
            <a:avLst/>
            <a:gdLst/>
            <a:ahLst/>
            <a:rect l="l" t="t" r="r" b="b"/>
            <a:pathLst>
              <a:path w="1" h="510">
                <a:moveTo>
                  <a:pt x="0" y="51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28880" y="3629160"/>
            <a:ext cx="590760" cy="2880"/>
          </a:xfrm>
          <a:custGeom>
            <a:avLst/>
            <a:gdLst/>
            <a:ahLst/>
            <a:rect l="l" t="t" r="r" b="b"/>
            <a:pathLst>
              <a:path w="372" h="2">
                <a:moveTo>
                  <a:pt x="0" y="0"/>
                </a:moveTo>
                <a:lnTo>
                  <a:pt x="372" y="2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2840" bIns="-42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3419640" y="3429000"/>
            <a:ext cx="0" cy="216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203640" y="3429000"/>
            <a:ext cx="21600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08320" y="3429000"/>
            <a:ext cx="1440" cy="390600"/>
          </a:xfrm>
          <a:custGeom>
            <a:avLst/>
            <a:gdLst/>
            <a:ahLst/>
            <a:rect l="l" t="t" r="r" b="b"/>
            <a:pathLst>
              <a:path w="1" h="246">
                <a:moveTo>
                  <a:pt x="0" y="0"/>
                </a:moveTo>
                <a:lnTo>
                  <a:pt x="1" y="24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03640" y="3827520"/>
            <a:ext cx="100800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10200" y="3814920"/>
            <a:ext cx="2880" cy="406080"/>
          </a:xfrm>
          <a:custGeom>
            <a:avLst/>
            <a:gdLst/>
            <a:ahLst/>
            <a:rect l="l" t="t" r="r" b="b"/>
            <a:pathLst>
              <a:path w="2" h="256">
                <a:moveTo>
                  <a:pt x="0" y="0"/>
                </a:moveTo>
                <a:lnTo>
                  <a:pt x="2" y="25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09880" y="4214880"/>
            <a:ext cx="401760" cy="6120"/>
          </a:xfrm>
          <a:custGeom>
            <a:avLst/>
            <a:gdLst/>
            <a:ahLst/>
            <a:rect l="l" t="t" r="r" b="b"/>
            <a:pathLst>
              <a:path w="253" h="4">
                <a:moveTo>
                  <a:pt x="253" y="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39600" bIns="-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3808440" y="4005000"/>
            <a:ext cx="0" cy="21564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14920" y="4005360"/>
            <a:ext cx="223560" cy="4680"/>
          </a:xfrm>
          <a:custGeom>
            <a:avLst/>
            <a:gdLst/>
            <a:ahLst/>
            <a:rect l="l" t="t" r="r" b="b"/>
            <a:pathLst>
              <a:path w="141" h="3">
                <a:moveTo>
                  <a:pt x="0" y="3"/>
                </a:moveTo>
                <a:lnTo>
                  <a:pt x="141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038480" y="4005360"/>
            <a:ext cx="0" cy="1008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24360" y="5014800"/>
            <a:ext cx="1009440" cy="5040"/>
          </a:xfrm>
          <a:custGeom>
            <a:avLst/>
            <a:gdLst/>
            <a:ahLst/>
            <a:rect l="l" t="t" r="r" b="b"/>
            <a:pathLst>
              <a:path w="636" h="3">
                <a:moveTo>
                  <a:pt x="636" y="3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716360" y="620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Collinear p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 flipV="1">
            <a:off x="4695840" y="1407600"/>
            <a:ext cx="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95840" y="1407960"/>
            <a:ext cx="35892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27480" y="1407960"/>
            <a:ext cx="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766760" y="1768320"/>
            <a:ext cx="360360" cy="7164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767120" y="1407960"/>
            <a:ext cx="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695840" y="615960"/>
            <a:ext cx="0" cy="72072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95840" y="615960"/>
            <a:ext cx="165564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6278040" y="615960"/>
            <a:ext cx="73080" cy="1584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4767120" y="2200320"/>
            <a:ext cx="151128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87800" y="3608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00240" y="44211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21200" y="42004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4799160" y="831600"/>
            <a:ext cx="0" cy="43164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91160" y="17924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7920" y="138744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63440" y="445788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95480" y="42130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98880" y="36766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15960" y="364500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062240" y="435600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32200" y="42400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716360" y="3429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Two wi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 flipH="1" flipV="1">
            <a:off x="4716000" y="3789360"/>
            <a:ext cx="79236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716360" y="3428640"/>
            <a:ext cx="115272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869080" y="3429000"/>
            <a:ext cx="431640" cy="115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5076720" y="4581360"/>
            <a:ext cx="122400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4716000" y="4220640"/>
            <a:ext cx="36036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716360" y="3429000"/>
            <a:ext cx="432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48360" y="3429000"/>
            <a:ext cx="115236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508720" y="4221000"/>
            <a:ext cx="79200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824360" y="39686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71960" y="36910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62560" y="357336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13520" y="40784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75440" y="43038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9680" y="47642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89560" y="48657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67560" y="47242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932360" y="3860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95920" y="3860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983560" y="4437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93000" y="43657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21440" y="3645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12000" y="3645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6948360" y="3429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 Twin int-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 flipH="1" flipV="1">
            <a:off x="6948000" y="3789360"/>
            <a:ext cx="36036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6948360" y="3428640"/>
            <a:ext cx="115272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101080" y="3429000"/>
            <a:ext cx="431640" cy="115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40720" y="4581360"/>
            <a:ext cx="79200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948000" y="4220640"/>
            <a:ext cx="79236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6948360" y="3429000"/>
            <a:ext cx="79236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740720" y="3429000"/>
            <a:ext cx="792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8100720" y="4221000"/>
            <a:ext cx="43164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6948360" y="4581360"/>
            <a:ext cx="115272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6948360" y="3428640"/>
            <a:ext cx="360360" cy="115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308720" y="3429000"/>
            <a:ext cx="122400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7308720" y="3789360"/>
            <a:ext cx="122400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193160" y="4809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083720" y="36702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186760" y="35575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361360" y="4692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99280" y="36846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102440" y="40258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023240" y="40989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43760" y="41846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015320" y="42991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118280" y="44006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191360" y="46562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559640" y="35733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612200" y="350676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96080" y="35290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799400" y="3500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182080" y="367020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299440" y="39751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429760" y="43419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237520" y="4724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873920" y="49100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05640" y="477828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24720" y="47610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907400" y="35956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326440" y="39816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352080" y="4633920"/>
            <a:ext cx="158436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3080" y="4653000"/>
            <a:ext cx="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3080" y="5013360"/>
            <a:ext cx="36036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03440" y="3428640"/>
            <a:ext cx="0" cy="1584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03440" y="3419640"/>
            <a:ext cx="1191960" cy="9360"/>
          </a:xfrm>
          <a:custGeom>
            <a:avLst/>
            <a:gdLst/>
            <a:ahLst/>
            <a:rect l="l" t="t" r="r" b="b"/>
            <a:pathLst>
              <a:path w="751" h="6">
                <a:moveTo>
                  <a:pt x="0" y="6"/>
                </a:moveTo>
                <a:lnTo>
                  <a:pt x="751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36360" bIns="-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27080" y="3429000"/>
            <a:ext cx="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3720" y="46180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243000" y="54288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 Twins remov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>
            <a:off x="241200" y="933480"/>
            <a:ext cx="571680" cy="1187280"/>
          </a:xfrm>
          <a:custGeom>
            <a:avLst/>
            <a:gdLst/>
            <a:ahLst/>
            <a:rect l="l" t="t" r="r" b="b"/>
            <a:pathLst>
              <a:path w="360" h="748">
                <a:moveTo>
                  <a:pt x="360" y="74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41200" y="542880"/>
            <a:ext cx="1181160" cy="397080"/>
          </a:xfrm>
          <a:custGeom>
            <a:avLst/>
            <a:gdLst/>
            <a:ahLst/>
            <a:rect l="l" t="t" r="r" b="b"/>
            <a:pathLst>
              <a:path w="744" h="250">
                <a:moveTo>
                  <a:pt x="0" y="250"/>
                </a:moveTo>
                <a:lnTo>
                  <a:pt x="744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28840" y="539640"/>
            <a:ext cx="399960" cy="1187640"/>
          </a:xfrm>
          <a:custGeom>
            <a:avLst/>
            <a:gdLst/>
            <a:ahLst/>
            <a:rect l="l" t="t" r="r" b="b"/>
            <a:pathLst>
              <a:path w="252" h="748">
                <a:moveTo>
                  <a:pt x="0" y="0"/>
                </a:moveTo>
                <a:lnTo>
                  <a:pt x="252" y="748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87280" y="1733400"/>
            <a:ext cx="641520" cy="393840"/>
          </a:xfrm>
          <a:custGeom>
            <a:avLst/>
            <a:gdLst/>
            <a:ahLst/>
            <a:rect l="l" t="t" r="r" b="b"/>
            <a:pathLst>
              <a:path w="404" h="248">
                <a:moveTo>
                  <a:pt x="404" y="0"/>
                </a:moveTo>
                <a:lnTo>
                  <a:pt x="0" y="248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44440" y="1336680"/>
            <a:ext cx="946080" cy="787320"/>
          </a:xfrm>
          <a:custGeom>
            <a:avLst/>
            <a:gdLst/>
            <a:ahLst/>
            <a:rect l="l" t="t" r="r" b="b"/>
            <a:pathLst>
              <a:path w="596" h="496">
                <a:moveTo>
                  <a:pt x="596" y="49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000" y="542520"/>
            <a:ext cx="79200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35000" y="542880"/>
            <a:ext cx="79236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32080" y="1335240"/>
            <a:ext cx="395280" cy="792000"/>
          </a:xfrm>
          <a:custGeom>
            <a:avLst/>
            <a:gdLst/>
            <a:ahLst/>
            <a:rect l="l" t="t" r="r" b="b"/>
            <a:pathLst>
              <a:path w="249" h="499">
                <a:moveTo>
                  <a:pt x="249" y="0"/>
                </a:moveTo>
                <a:lnTo>
                  <a:pt x="0" y="499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7680" y="1736640"/>
            <a:ext cx="1187280" cy="387360"/>
          </a:xfrm>
          <a:custGeom>
            <a:avLst/>
            <a:gdLst/>
            <a:ahLst/>
            <a:rect l="l" t="t" r="r" b="b"/>
            <a:pathLst>
              <a:path w="748" h="244">
                <a:moveTo>
                  <a:pt x="748" y="24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4440" y="539640"/>
            <a:ext cx="393840" cy="1197000"/>
          </a:xfrm>
          <a:custGeom>
            <a:avLst/>
            <a:gdLst/>
            <a:ahLst/>
            <a:rect l="l" t="t" r="r" b="b"/>
            <a:pathLst>
              <a:path w="248" h="754">
                <a:moveTo>
                  <a:pt x="0" y="754"/>
                </a:moveTo>
                <a:lnTo>
                  <a:pt x="248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44400" y="552600"/>
            <a:ext cx="1177920" cy="380880"/>
          </a:xfrm>
          <a:custGeom>
            <a:avLst/>
            <a:gdLst/>
            <a:ahLst/>
            <a:rect l="l" t="t" r="r" b="b"/>
            <a:pathLst>
              <a:path w="742" h="240">
                <a:moveTo>
                  <a:pt x="0" y="0"/>
                </a:moveTo>
                <a:lnTo>
                  <a:pt x="742" y="24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19000" y="936720"/>
            <a:ext cx="1003320" cy="1190520"/>
          </a:xfrm>
          <a:custGeom>
            <a:avLst/>
            <a:gdLst/>
            <a:ahLst/>
            <a:rect l="l" t="t" r="r" b="b"/>
            <a:pathLst>
              <a:path w="632" h="750">
                <a:moveTo>
                  <a:pt x="632" y="0"/>
                </a:moveTo>
                <a:lnTo>
                  <a:pt x="0" y="75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04880" y="19670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78000" y="7840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481400" y="6714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56000" y="18064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27040" y="7984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5800" y="11304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2440" y="1187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76200" y="122220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33360" y="14065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52600" y="15876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31760" y="19940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53920" y="6872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06480" y="62064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90720" y="6429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093680" y="61452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511280" y="8208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03440" y="10987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24040" y="14558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517760" y="189540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244520" y="20494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7240" y="187308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19080" y="196200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201680" y="7095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608120" y="11494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636560" y="112392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27280" y="1758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39800" y="8618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631160" y="78408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97080" y="8492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06680" y="16207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95280" y="1771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3920" y="620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245240" y="149076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54000" y="191448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971640" y="2022480"/>
            <a:ext cx="104760" cy="720720"/>
          </a:xfrm>
          <a:custGeom>
            <a:avLst/>
            <a:gdLst/>
            <a:ahLst/>
            <a:rect l="l" t="t" r="r" b="b"/>
            <a:pathLst>
              <a:path w="66" h="454">
                <a:moveTo>
                  <a:pt x="66" y="454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2160" y="2787480"/>
            <a:ext cx="204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n, maar niet 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eerste!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95560" y="1413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8160" y="11714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93920" y="763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90640" y="566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23920" y="577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541520" y="777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83000" y="11192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770120" y="14558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495440" y="1855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32640" y="199548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73800" y="200664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2409840" y="5526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 Double visi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6" name=""/>
          <p:cNvSpPr/>
          <p:nvPr/>
        </p:nvSpPr>
        <p:spPr>
          <a:xfrm>
            <a:off x="2608200" y="946080"/>
            <a:ext cx="1220760" cy="1800"/>
          </a:xfrm>
          <a:custGeom>
            <a:avLst/>
            <a:gdLst/>
            <a:ahLst/>
            <a:rect l="l" t="t" r="r" b="b"/>
            <a:pathLst>
              <a:path w="769" h="1">
                <a:moveTo>
                  <a:pt x="0" y="0"/>
                </a:moveTo>
                <a:lnTo>
                  <a:pt x="769" y="1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03640" y="942840"/>
            <a:ext cx="619200" cy="1190880"/>
          </a:xfrm>
          <a:custGeom>
            <a:avLst/>
            <a:gdLst/>
            <a:ahLst/>
            <a:rect l="l" t="t" r="r" b="b"/>
            <a:pathLst>
              <a:path w="390" h="750">
                <a:moveTo>
                  <a:pt x="390" y="0"/>
                </a:moveTo>
                <a:lnTo>
                  <a:pt x="0" y="75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409840" y="947880"/>
            <a:ext cx="793800" cy="1185840"/>
          </a:xfrm>
          <a:custGeom>
            <a:avLst/>
            <a:gdLst/>
            <a:ahLst/>
            <a:rect l="l" t="t" r="r" b="b"/>
            <a:pathLst>
              <a:path w="500" h="747">
                <a:moveTo>
                  <a:pt x="500" y="747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13080" y="549360"/>
            <a:ext cx="214200" cy="406440"/>
          </a:xfrm>
          <a:custGeom>
            <a:avLst/>
            <a:gdLst/>
            <a:ahLst/>
            <a:rect l="l" t="t" r="r" b="b"/>
            <a:pathLst>
              <a:path w="135" h="256">
                <a:moveTo>
                  <a:pt x="0" y="256"/>
                </a:moveTo>
                <a:lnTo>
                  <a:pt x="135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627280" y="549360"/>
            <a:ext cx="173160" cy="784080"/>
          </a:xfrm>
          <a:custGeom>
            <a:avLst/>
            <a:gdLst/>
            <a:ahLst/>
            <a:rect l="l" t="t" r="r" b="b"/>
            <a:pathLst>
              <a:path w="109" h="494">
                <a:moveTo>
                  <a:pt x="0" y="0"/>
                </a:moveTo>
                <a:lnTo>
                  <a:pt x="109" y="494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809800" y="549360"/>
            <a:ext cx="171360" cy="777960"/>
          </a:xfrm>
          <a:custGeom>
            <a:avLst/>
            <a:gdLst/>
            <a:ahLst/>
            <a:rect l="l" t="t" r="r" b="b"/>
            <a:pathLst>
              <a:path w="108" h="490">
                <a:moveTo>
                  <a:pt x="0" y="490"/>
                </a:moveTo>
                <a:lnTo>
                  <a:pt x="108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987640" y="549360"/>
            <a:ext cx="216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3203640" y="549360"/>
            <a:ext cx="216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19640" y="549360"/>
            <a:ext cx="380880" cy="1584360"/>
          </a:xfrm>
          <a:custGeom>
            <a:avLst/>
            <a:gdLst/>
            <a:ahLst/>
            <a:rect l="l" t="t" r="r" b="b"/>
            <a:pathLst>
              <a:path w="240" h="998">
                <a:moveTo>
                  <a:pt x="0" y="0"/>
                </a:moveTo>
                <a:lnTo>
                  <a:pt x="240" y="998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413080" y="1343160"/>
            <a:ext cx="1390680" cy="790560"/>
          </a:xfrm>
          <a:custGeom>
            <a:avLst/>
            <a:gdLst/>
            <a:ahLst/>
            <a:rect l="l" t="t" r="r" b="b"/>
            <a:pathLst>
              <a:path w="876" h="498">
                <a:moveTo>
                  <a:pt x="876" y="4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411280" y="946080"/>
            <a:ext cx="195480" cy="397080"/>
          </a:xfrm>
          <a:custGeom>
            <a:avLst/>
            <a:gdLst/>
            <a:ahLst/>
            <a:rect l="l" t="t" r="r" b="b"/>
            <a:pathLst>
              <a:path w="123" h="250">
                <a:moveTo>
                  <a:pt x="0" y="250"/>
                </a:moveTo>
                <a:lnTo>
                  <a:pt x="123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500200" y="10890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603600" y="13176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332160" y="184140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98840" y="93492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294000" y="9237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75120" y="92376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97120" y="9237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878200" y="93024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06560" y="15476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424240" y="11890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635640" y="8683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738600" y="11365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978280" y="1855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53044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9712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87820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7512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31632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50388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556720" y="145908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233800" y="1065240"/>
            <a:ext cx="2246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L, 1: star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468520" y="879480"/>
            <a:ext cx="21420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L, 2: tur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4-17T18:20:10Z</dcterms:modified>
  <cp:revision>58</cp:revision>
  <dc:subject/>
  <dc:title>Slide 1</dc:title>
</cp:coreProperties>
</file>