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82A2-170B-48E3-A989-56CF14F4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F16A-5F53-42E9-B279-3609CEDF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39F-D88D-42BF-BA23-1B795370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444-6D73-45CF-9C41-27413E0D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8EC3-DFFC-49E7-B7BB-F331D76B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258-0259-4A92-869A-3B0D97AF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71E-1DD1-4B85-8C77-CCCD5493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860-4B91-41D5-8095-697F9E5F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231-1182-4CBC-AB94-C63F1294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1AA-36BD-4EA8-A120-B7BDD8EA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EBE-58BF-4F55-A4E0-2A6531AE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B6D-B52D-47F0-9874-826EDC53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C803-7C26-44DB-9A33-EE5065C04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gmented de9im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Augmented dimension extended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9 intersection matri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end Gehr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rt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opposite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432400" y="126828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733400" y="130824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 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451240" y="1994040"/>
            <a:ext cx="3848040" cy="28080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0520" y="2201760"/>
            <a:ext cx="685800" cy="101304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7680" y="188424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21448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440" y="262404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24720" y="41482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4653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238960" y="462132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5397480" y="41148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1698480" y="4154400"/>
          <a:ext cx="1584360" cy="2381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ppo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2416320" y="4840200"/>
            <a:ext cx="3879720" cy="274680"/>
          </a:xfrm>
          <a:custGeom>
            <a:avLst/>
            <a:gdLst/>
            <a:ahLst/>
            <a:rect l="l" t="t" r="r" b="b"/>
            <a:pathLst>
              <a:path w="2444" h="173">
                <a:moveTo>
                  <a:pt x="0" y="0"/>
                </a:moveTo>
                <a:lnTo>
                  <a:pt x="2444" y="17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600" y="504828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3360" y="476244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1840" y="49910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547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96360" y="155736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13800" y="17017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10600" y="1685880"/>
            <a:ext cx="6480" cy="49536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22440" y="21463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63560" y="2251080"/>
            <a:ext cx="58428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49440" y="4984920"/>
            <a:ext cx="583920" cy="88884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4720" y="509256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34200" y="4200480"/>
            <a:ext cx="1800" cy="698400"/>
          </a:xfrm>
          <a:custGeom>
            <a:avLst/>
            <a:gdLst/>
            <a:ahLst/>
            <a:rect l="l" t="t" r="r" b="b"/>
            <a:pathLst>
              <a:path w="1" h="440">
                <a:moveTo>
                  <a:pt x="0" y="0"/>
                </a:moveTo>
                <a:lnTo>
                  <a:pt x="0" y="4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44080" y="4708440"/>
            <a:ext cx="144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407440" y="1577880"/>
            <a:ext cx="4680" cy="752400"/>
          </a:xfrm>
          <a:custGeom>
            <a:avLst/>
            <a:gdLst/>
            <a:ahLst/>
            <a:rect l="l" t="t" r="r" b="b"/>
            <a:pathLst>
              <a:path w="3" h="474">
                <a:moveTo>
                  <a:pt x="3" y="0"/>
                </a:moveTo>
                <a:lnTo>
                  <a:pt x="0" y="47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204040" y="1727280"/>
            <a:ext cx="6480" cy="444600"/>
          </a:xfrm>
          <a:custGeom>
            <a:avLst/>
            <a:gdLst/>
            <a:ahLst/>
            <a:rect l="l" t="t" r="r" b="b"/>
            <a:pathLst>
              <a:path w="4" h="280">
                <a:moveTo>
                  <a:pt x="0" y="0"/>
                </a:moveTo>
                <a:lnTo>
                  <a:pt x="4" y="28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00400" y="1943280"/>
            <a:ext cx="2705040" cy="1514160"/>
          </a:xfrm>
          <a:custGeom>
            <a:avLst/>
            <a:gdLst/>
            <a:ahLst/>
            <a:rect l="l" t="t" r="r" b="b"/>
            <a:pathLst>
              <a:path w="1704" h="954">
                <a:moveTo>
                  <a:pt x="0" y="954"/>
                </a:moveTo>
                <a:lnTo>
                  <a:pt x="17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62640" y="4734000"/>
            <a:ext cx="2157120" cy="1209600"/>
          </a:xfrm>
          <a:custGeom>
            <a:avLst/>
            <a:gdLst/>
            <a:ahLst/>
            <a:rect l="l" t="t" r="r" b="b"/>
            <a:pathLst>
              <a:path w="1359" h="762">
                <a:moveTo>
                  <a:pt x="0" y="762"/>
                </a:moveTo>
                <a:lnTo>
                  <a:pt x="1359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62640" y="5524560"/>
            <a:ext cx="1376280" cy="419040"/>
          </a:xfrm>
          <a:custGeom>
            <a:avLst/>
            <a:gdLst/>
            <a:ahLst/>
            <a:rect l="l" t="t" r="r" b="b"/>
            <a:pathLst>
              <a:path w="867" h="264">
                <a:moveTo>
                  <a:pt x="0" y="264"/>
                </a:moveTo>
                <a:lnTo>
                  <a:pt x="8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04280" y="4302000"/>
            <a:ext cx="423720" cy="422280"/>
          </a:xfrm>
          <a:custGeom>
            <a:avLst/>
            <a:gdLst/>
            <a:ahLst/>
            <a:rect l="l" t="t" r="r" b="b"/>
            <a:pathLst>
              <a:path w="267" h="266">
                <a:moveTo>
                  <a:pt x="0" y="130"/>
                </a:moveTo>
                <a:cubicBezTo>
                  <a:pt x="4" y="117"/>
                  <a:pt x="6" y="72"/>
                  <a:pt x="25" y="51"/>
                </a:cubicBezTo>
                <a:cubicBezTo>
                  <a:pt x="44" y="30"/>
                  <a:pt x="82" y="6"/>
                  <a:pt x="114" y="3"/>
                </a:cubicBezTo>
                <a:cubicBezTo>
                  <a:pt x="146" y="0"/>
                  <a:pt x="191" y="13"/>
                  <a:pt x="216" y="31"/>
                </a:cubicBezTo>
                <a:cubicBezTo>
                  <a:pt x="241" y="49"/>
                  <a:pt x="261" y="82"/>
                  <a:pt x="264" y="112"/>
                </a:cubicBezTo>
                <a:cubicBezTo>
                  <a:pt x="267" y="142"/>
                  <a:pt x="257" y="188"/>
                  <a:pt x="237" y="213"/>
                </a:cubicBezTo>
                <a:cubicBezTo>
                  <a:pt x="217" y="238"/>
                  <a:pt x="171" y="256"/>
                  <a:pt x="142" y="261"/>
                </a:cubicBezTo>
                <a:cubicBezTo>
                  <a:pt x="113" y="266"/>
                  <a:pt x="77" y="245"/>
                  <a:pt x="60" y="241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434440" y="47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839000" y="175752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553000"/>
            <a:ext cx="1762200" cy="390600"/>
          </a:xfrm>
          <a:custGeom>
            <a:avLst/>
            <a:gdLst/>
            <a:ahLst/>
            <a:rect l="l" t="t" r="r" b="b"/>
            <a:pathLst>
              <a:path w="1110" h="246">
                <a:moveTo>
                  <a:pt x="0" y="246"/>
                </a:moveTo>
                <a:lnTo>
                  <a:pt x="111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567320" y="5129280"/>
            <a:ext cx="2171520" cy="814320"/>
          </a:xfrm>
          <a:custGeom>
            <a:avLst/>
            <a:gdLst/>
            <a:ahLst/>
            <a:rect l="l" t="t" r="r" b="b"/>
            <a:pathLst>
              <a:path w="1368" h="513">
                <a:moveTo>
                  <a:pt x="0" y="513"/>
                </a:moveTo>
                <a:lnTo>
                  <a:pt x="136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067200" y="5943600"/>
            <a:ext cx="1504800" cy="409680"/>
          </a:xfrm>
          <a:custGeom>
            <a:avLst/>
            <a:gdLst/>
            <a:ahLst/>
            <a:rect l="l" t="t" r="r" b="b"/>
            <a:pathLst>
              <a:path w="948" h="258">
                <a:moveTo>
                  <a:pt x="0" y="258"/>
                </a:moveTo>
                <a:lnTo>
                  <a:pt x="94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50280" y="2565360"/>
            <a:ext cx="1155600" cy="863640"/>
          </a:xfrm>
          <a:custGeom>
            <a:avLst/>
            <a:gdLst/>
            <a:ahLst/>
            <a:rect l="l" t="t" r="r" b="b"/>
            <a:pathLst>
              <a:path w="728" h="544">
                <a:moveTo>
                  <a:pt x="0" y="544"/>
                </a:moveTo>
                <a:lnTo>
                  <a:pt x="0" y="344"/>
                </a:lnTo>
                <a:lnTo>
                  <a:pt x="236" y="342"/>
                </a:lnTo>
                <a:lnTo>
                  <a:pt x="236" y="180"/>
                </a:lnTo>
                <a:lnTo>
                  <a:pt x="8" y="186"/>
                </a:lnTo>
                <a:lnTo>
                  <a:pt x="8" y="0"/>
                </a:lnTo>
                <a:lnTo>
                  <a:pt x="728" y="0"/>
                </a:lnTo>
                <a:lnTo>
                  <a:pt x="728" y="540"/>
                </a:lnTo>
                <a:lnTo>
                  <a:pt x="0" y="544"/>
                </a:lnTo>
                <a:close/>
              </a:path>
            </a:pathLst>
          </a:custGeom>
          <a:solidFill>
            <a:srgbClr val="669900">
              <a:alpha val="80000"/>
            </a:srgbClr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42320" y="285264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935840" y="2820960"/>
            <a:ext cx="1800" cy="30492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40600" y="290844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1320" y="29750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831080" y="2897280"/>
            <a:ext cx="1800" cy="419040"/>
          </a:xfrm>
          <a:custGeom>
            <a:avLst/>
            <a:gdLst/>
            <a:ahLst/>
            <a:rect l="l" t="t" r="r" b="b"/>
            <a:pathLst>
              <a:path w="1" h="264">
                <a:moveTo>
                  <a:pt x="0" y="26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ve added “opposite” information on segments, in case of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shows if polygons have interior/interior overlap or interior/exterior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ther words, if the polygons, at those segments, overlap each other or touch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t is different from “DLine” 16 matrix where segment-boundaries/directions s/e (start/end) are noticed. In case of overlap the boundaries do not need to inters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opposi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“turn”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9000" y="5343480"/>
            <a:ext cx="352440" cy="504720"/>
          </a:xfrm>
          <a:custGeom>
            <a:avLst/>
            <a:gdLst/>
            <a:ahLst/>
            <a:rect l="l" t="t" r="r" b="b"/>
            <a:pathLst>
              <a:path w="222" h="318">
                <a:moveTo>
                  <a:pt x="0" y="318"/>
                </a:moveTo>
                <a:lnTo>
                  <a:pt x="6" y="0"/>
                </a:lnTo>
                <a:lnTo>
                  <a:pt x="222" y="6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5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1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329680" y="2565360"/>
            <a:ext cx="1440" cy="84456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32968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465760" y="31543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82800" y="3355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67640" y="609300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2775600">
            <a:off x="7926120" y="6154200"/>
            <a:ext cx="306360" cy="2811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3000"/>
            <a:ext cx="218880" cy="215640"/>
          </a:xfrm>
          <a:custGeom>
            <a:avLst/>
            <a:gdLst/>
            <a:ahLst/>
            <a:rect l="l" t="t" r="r" b="b"/>
            <a:pathLst>
              <a:path w="138" h="136">
                <a:moveTo>
                  <a:pt x="138" y="13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024760" y="60087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60320" y="1709640"/>
            <a:ext cx="23760" cy="594000"/>
          </a:xfrm>
          <a:custGeom>
            <a:avLst/>
            <a:gdLst/>
            <a:ahLst/>
            <a:rect l="l" t="t" r="r" b="b"/>
            <a:pathLst>
              <a:path w="15" h="374">
                <a:moveTo>
                  <a:pt x="15" y="0"/>
                </a:moveTo>
                <a:lnTo>
                  <a:pt x="0" y="37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ight (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7596360" y="811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101080" y="954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101124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93160" y="952560"/>
            <a:ext cx="218880" cy="6120"/>
          </a:xfrm>
          <a:custGeom>
            <a:avLst/>
            <a:gdLst/>
            <a:ahLst/>
            <a:rect l="l" t="t" r="r" b="b"/>
            <a:pathLst>
              <a:path w="138" h="4">
                <a:moveTo>
                  <a:pt x="0" y="4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53360" y="882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22" name=""/>
          <p:cNvSpPr/>
          <p:nvPr/>
        </p:nvSpPr>
        <p:spPr>
          <a:xfrm>
            <a:off x="7596360" y="17352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101080" y="187812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39000" y="1935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105760" y="1873080"/>
            <a:ext cx="219240" cy="1800"/>
          </a:xfrm>
          <a:custGeom>
            <a:avLst/>
            <a:gdLst/>
            <a:ahLst/>
            <a:rect l="l" t="t" r="r" b="b"/>
            <a:pathLst>
              <a:path w="138" h="1">
                <a:moveTo>
                  <a:pt x="0" y="0"/>
                </a:move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53360" y="18064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59400" y="1727280"/>
            <a:ext cx="1371600" cy="380880"/>
          </a:xfrm>
          <a:custGeom>
            <a:avLst/>
            <a:gdLst/>
            <a:ahLst/>
            <a:rect l="l" t="t" r="r" b="b"/>
            <a:pathLst>
              <a:path w="864" h="240">
                <a:moveTo>
                  <a:pt x="0" y="240"/>
                </a:moveTo>
                <a:lnTo>
                  <a:pt x="86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84600" y="1739880"/>
            <a:ext cx="1752840" cy="380880"/>
          </a:xfrm>
          <a:custGeom>
            <a:avLst/>
            <a:gdLst/>
            <a:ahLst/>
            <a:rect l="l" t="t" r="r" b="b"/>
            <a:pathLst>
              <a:path w="1104" h="240">
                <a:moveTo>
                  <a:pt x="0" y="240"/>
                </a:moveTo>
                <a:lnTo>
                  <a:pt x="110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0160" y="2031840"/>
            <a:ext cx="1714320" cy="101880"/>
          </a:xfrm>
          <a:custGeom>
            <a:avLst/>
            <a:gdLst/>
            <a:ahLst/>
            <a:rect l="l" t="t" r="r" b="b"/>
            <a:pathLst>
              <a:path w="1080" h="64">
                <a:moveTo>
                  <a:pt x="0" y="64"/>
                </a:moveTo>
                <a:lnTo>
                  <a:pt x="108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280" y="4653000"/>
            <a:ext cx="66596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a directed segment b (and they are all directed) of poly B meets the interior of a segment a of poly A, the situation is the exactly the same as in the opposite di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 “opposite” gives no extra information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453440" y="3457440"/>
            <a:ext cx="1582560" cy="504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05920" y="2717640"/>
            <a:ext cx="6120" cy="736920"/>
          </a:xfrm>
          <a:custGeom>
            <a:avLst/>
            <a:gdLst/>
            <a:ahLst/>
            <a:rect l="l" t="t" r="r" b="b"/>
            <a:pathLst>
              <a:path w="4" h="464">
                <a:moveTo>
                  <a:pt x="0" y="0"/>
                </a:moveTo>
                <a:lnTo>
                  <a:pt x="4" y="464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572240" y="3127320"/>
            <a:ext cx="1463760" cy="30816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956720" y="2720880"/>
            <a:ext cx="34416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051400" y="322092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679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944920" y="34639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41840" y="34941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348040" y="301464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733320" y="45435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760" y="234324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35040" y="2306520"/>
            <a:ext cx="127080" cy="551160"/>
          </a:xfrm>
          <a:custGeom>
            <a:avLst/>
            <a:gdLst/>
            <a:ahLst/>
            <a:rect l="l" t="t" r="r" b="b"/>
            <a:pathLst>
              <a:path w="80" h="347">
                <a:moveTo>
                  <a:pt x="80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413080"/>
            <a:ext cx="495360" cy="406440"/>
          </a:xfrm>
          <a:custGeom>
            <a:avLst/>
            <a:gdLst/>
            <a:ahLst/>
            <a:rect l="l" t="t" r="r" b="b"/>
            <a:pathLst>
              <a:path w="312" h="256">
                <a:moveTo>
                  <a:pt x="312" y="0"/>
                </a:moveTo>
                <a:lnTo>
                  <a:pt x="56" y="8"/>
                </a:lnTo>
                <a:lnTo>
                  <a:pt x="0" y="25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810000" y="2371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056440" y="909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317080" y="90972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244000" y="83808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184464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1844640"/>
            <a:ext cx="293400" cy="180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44000" y="17715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77840" y="5067360"/>
            <a:ext cx="584280" cy="162000"/>
          </a:xfrm>
          <a:custGeom>
            <a:avLst/>
            <a:gdLst/>
            <a:ahLst/>
            <a:rect l="l" t="t" r="r" b="b"/>
            <a:pathLst>
              <a:path w="368" h="102">
                <a:moveTo>
                  <a:pt x="368" y="10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6760" y="5219640"/>
            <a:ext cx="368280" cy="622440"/>
          </a:xfrm>
          <a:custGeom>
            <a:avLst/>
            <a:gdLst/>
            <a:ahLst/>
            <a:rect l="l" t="t" r="r" b="b"/>
            <a:pathLst>
              <a:path w="232" h="392">
                <a:moveTo>
                  <a:pt x="232" y="392"/>
                </a:moveTo>
                <a:lnTo>
                  <a:pt x="232" y="6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39840" y="5241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67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099280" y="403236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96200" y="4533840"/>
            <a:ext cx="9720" cy="20016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232840" y="44402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3" name=""/>
          <p:cNvSpPr/>
          <p:nvPr/>
        </p:nvSpPr>
        <p:spPr>
          <a:xfrm>
            <a:off x="8101080" y="558972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294760" y="5257800"/>
            <a:ext cx="9360" cy="324000"/>
          </a:xfrm>
          <a:custGeom>
            <a:avLst/>
            <a:gdLst/>
            <a:ahLst/>
            <a:rect l="l" t="t" r="r" b="b"/>
            <a:pathLst>
              <a:path w="6" h="204">
                <a:moveTo>
                  <a:pt x="0" y="20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231040" y="55166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59400" y="1682640"/>
            <a:ext cx="2127240" cy="425520"/>
          </a:xfrm>
          <a:custGeom>
            <a:avLst/>
            <a:gdLst/>
            <a:ahLst/>
            <a:rect l="l" t="t" r="r" b="b"/>
            <a:pathLst>
              <a:path w="1340" h="268">
                <a:moveTo>
                  <a:pt x="0" y="268"/>
                </a:moveTo>
                <a:lnTo>
                  <a:pt x="134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584600" y="2070000"/>
            <a:ext cx="1720800" cy="50760"/>
          </a:xfrm>
          <a:custGeom>
            <a:avLst/>
            <a:gdLst/>
            <a:ahLst/>
            <a:rect l="l" t="t" r="r" b="b"/>
            <a:pathLst>
              <a:path w="1084" h="32">
                <a:moveTo>
                  <a:pt x="0" y="32"/>
                </a:moveTo>
                <a:lnTo>
                  <a:pt x="1084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55800" y="1498680"/>
            <a:ext cx="1828800" cy="596880"/>
          </a:xfrm>
          <a:custGeom>
            <a:avLst/>
            <a:gdLst/>
            <a:ahLst/>
            <a:rect l="l" t="t" r="r" b="b"/>
            <a:pathLst>
              <a:path w="1152" h="376">
                <a:moveTo>
                  <a:pt x="0" y="0"/>
                </a:moveTo>
                <a:lnTo>
                  <a:pt x="1152" y="37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022560" y="2120760"/>
            <a:ext cx="1575000" cy="102888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600440" y="4737240"/>
            <a:ext cx="1305000" cy="255600"/>
          </a:xfrm>
          <a:custGeom>
            <a:avLst/>
            <a:gdLst/>
            <a:ahLst/>
            <a:rect l="l" t="t" r="r" b="b"/>
            <a:pathLst>
              <a:path w="822" h="161">
                <a:moveTo>
                  <a:pt x="0" y="161"/>
                </a:moveTo>
                <a:lnTo>
                  <a:pt x="82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400480" y="4800600"/>
            <a:ext cx="2199960" cy="166680"/>
          </a:xfrm>
          <a:custGeom>
            <a:avLst/>
            <a:gdLst/>
            <a:ahLst/>
            <a:rect l="l" t="t" r="r" b="b"/>
            <a:pathLst>
              <a:path w="1386" h="105">
                <a:moveTo>
                  <a:pt x="0" y="0"/>
                </a:moveTo>
                <a:lnTo>
                  <a:pt x="1386" y="105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038400" y="4992840"/>
            <a:ext cx="1575000" cy="1028520"/>
          </a:xfrm>
          <a:custGeom>
            <a:avLst/>
            <a:gdLst/>
            <a:ahLst/>
            <a:rect l="l" t="t" r="r" b="b"/>
            <a:pathLst>
              <a:path w="992" h="648">
                <a:moveTo>
                  <a:pt x="0" y="648"/>
                </a:moveTo>
                <a:lnTo>
                  <a:pt x="992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597560" y="4419720"/>
            <a:ext cx="1282680" cy="558720"/>
          </a:xfrm>
          <a:custGeom>
            <a:avLst/>
            <a:gdLst/>
            <a:ahLst/>
            <a:rect l="l" t="t" r="r" b="b"/>
            <a:pathLst>
              <a:path w="808" h="352">
                <a:moveTo>
                  <a:pt x="0" y="352"/>
                </a:moveTo>
                <a:lnTo>
                  <a:pt x="80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10160" y="2133720"/>
            <a:ext cx="1333440" cy="311040"/>
          </a:xfrm>
          <a:custGeom>
            <a:avLst/>
            <a:gdLst/>
            <a:ahLst/>
            <a:rect l="l" t="t" r="r" b="b"/>
            <a:pathLst>
              <a:path w="840" h="196">
                <a:moveTo>
                  <a:pt x="0" y="0"/>
                </a:moveTo>
                <a:lnTo>
                  <a:pt x="840" y="196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43280" y="4813200"/>
            <a:ext cx="1694160" cy="169920"/>
          </a:xfrm>
          <a:custGeom>
            <a:avLst/>
            <a:gdLst/>
            <a:ahLst/>
            <a:rect l="l" t="t" r="r" b="b"/>
            <a:pathLst>
              <a:path w="1067" h="107">
                <a:moveTo>
                  <a:pt x="0" y="107"/>
                </a:moveTo>
                <a:lnTo>
                  <a:pt x="106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453440" y="3073320"/>
            <a:ext cx="1582560" cy="4680"/>
          </a:xfrm>
          <a:custGeom>
            <a:avLst/>
            <a:gdLst/>
            <a:ahLst/>
            <a:rect l="l" t="t" r="r" b="b"/>
            <a:pathLst>
              <a:path w="997" h="3">
                <a:moveTo>
                  <a:pt x="997" y="3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25000" y="3057480"/>
            <a:ext cx="4680" cy="676440"/>
          </a:xfrm>
          <a:custGeom>
            <a:avLst/>
            <a:gdLst/>
            <a:ahLst/>
            <a:rect l="l" t="t" r="r" b="b"/>
            <a:pathLst>
              <a:path w="3" h="426">
                <a:moveTo>
                  <a:pt x="3" y="0"/>
                </a:moveTo>
                <a:lnTo>
                  <a:pt x="0" y="42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37520" y="294480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572240" y="2743200"/>
            <a:ext cx="1463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97080"/>
            <a:ext cx="344160" cy="6001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19280" y="308772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388000" y="310356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801920" y="341784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7640" y="337644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907920"/>
            <a:ext cx="82296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a I/B or B/I segment gives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the inside of the polygon is always on the right s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right turn means inbound, polygon I/I, polygon I/B or B/I 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ft turn means outbound, polygon touches or over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se tur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928800" y="3713040"/>
            <a:ext cx="1771560" cy="830520"/>
          </a:xfrm>
          <a:custGeom>
            <a:avLst/>
            <a:gdLst/>
            <a:ahLst/>
            <a:rect l="l" t="t" r="r" b="b"/>
            <a:pathLst>
              <a:path w="1116" h="523">
                <a:moveTo>
                  <a:pt x="1116" y="0"/>
                </a:moveTo>
                <a:lnTo>
                  <a:pt x="0" y="523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260460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55096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313600">
            <a:off x="235440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0027400">
            <a:off x="1047240" y="4043160"/>
            <a:ext cx="88740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25092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3749760"/>
            <a:ext cx="206856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3560" y="3233880"/>
            <a:ext cx="1023840" cy="738000"/>
          </a:xfrm>
          <a:custGeom>
            <a:avLst/>
            <a:gdLst/>
            <a:ahLst/>
            <a:rect l="l" t="t" r="r" b="b"/>
            <a:pathLst>
              <a:path w="645" h="465">
                <a:moveTo>
                  <a:pt x="645" y="0"/>
                </a:moveTo>
                <a:lnTo>
                  <a:pt x="441" y="270"/>
                </a:lnTo>
                <a:lnTo>
                  <a:pt x="0" y="465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325600" y="3357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1051600">
            <a:off x="610920" y="394776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8800" y="3713040"/>
            <a:ext cx="317520" cy="1230480"/>
          </a:xfrm>
          <a:custGeom>
            <a:avLst/>
            <a:gdLst/>
            <a:ahLst/>
            <a:rect l="l" t="t" r="r" b="b"/>
            <a:pathLst>
              <a:path w="200" h="775">
                <a:moveTo>
                  <a:pt x="200" y="0"/>
                </a:moveTo>
                <a:lnTo>
                  <a:pt x="0" y="775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6460920" y="2349360"/>
            <a:ext cx="1135080" cy="139860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407280" y="3573360"/>
            <a:ext cx="220680" cy="23364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313600">
            <a:off x="6210360" y="2133360"/>
            <a:ext cx="879480" cy="131292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7103000">
            <a:off x="5870880" y="4207320"/>
            <a:ext cx="763920" cy="2095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4106880" y="3673440"/>
            <a:ext cx="2411280" cy="0"/>
          </a:xfrm>
          <a:prstGeom prst="line">
            <a:avLst/>
          </a:prstGeom>
          <a:ln w="50760">
            <a:solidFill>
              <a:srgbClr val="66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465800" y="3749760"/>
            <a:ext cx="2068200" cy="269640"/>
          </a:xfrm>
          <a:custGeom>
            <a:avLst/>
            <a:gdLst/>
            <a:ahLst/>
            <a:rect l="l" t="t" r="r" b="b"/>
            <a:pathLst>
              <a:path w="1303" h="170">
                <a:moveTo>
                  <a:pt x="0" y="170"/>
                </a:moveTo>
                <a:lnTo>
                  <a:pt x="130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233880"/>
            <a:ext cx="471240" cy="1195200"/>
          </a:xfrm>
          <a:custGeom>
            <a:avLst/>
            <a:gdLst/>
            <a:ahLst/>
            <a:rect l="l" t="t" r="r" b="b"/>
            <a:pathLst>
              <a:path w="297" h="753">
                <a:moveTo>
                  <a:pt x="297" y="0"/>
                </a:moveTo>
                <a:lnTo>
                  <a:pt x="93" y="270"/>
                </a:lnTo>
                <a:lnTo>
                  <a:pt x="0" y="75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89800" y="359712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1128400">
            <a:off x="4536720" y="3966840"/>
            <a:ext cx="887400" cy="1429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measured on two segments say n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 a right turn means inside, but e.g. on corners as in previous there are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oth for turns measured from a common starting point, as for turns measured for segments following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o use a third segment to use tur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71640" y="549360"/>
          <a:ext cx="5761080" cy="5040360"/>
        </p:xfrm>
        <a:graphic>
          <a:graphicData uri="http://schemas.openxmlformats.org/drawingml/2006/table">
            <a:tbl>
              <a:tblPr/>
              <a:tblGrid>
                <a:gridCol w="1436760"/>
                <a:gridCol w="1449360"/>
                <a:gridCol w="1438200"/>
                <a:gridCol w="1436760"/>
              </a:tblGrid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 extend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intersec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ri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for polygon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8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0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/in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484360" y="191628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2133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71640" y="2133720"/>
            <a:ext cx="216000" cy="287280"/>
          </a:xfrm>
          <a:prstGeom prst="rect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085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1935000"/>
            <a:ext cx="37476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7040" y="1930320"/>
            <a:ext cx="218880" cy="285840"/>
          </a:xfrm>
          <a:custGeom>
            <a:avLst/>
            <a:gdLst/>
            <a:ahLst/>
            <a:rect l="l" t="t" r="r" b="b"/>
            <a:pathLst>
              <a:path w="138" h="180">
                <a:moveTo>
                  <a:pt x="0" y="180"/>
                </a:moveTo>
                <a:lnTo>
                  <a:pt x="0" y="0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1844640"/>
            <a:ext cx="34740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44880" y="2211480"/>
            <a:ext cx="28908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3392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78440" y="351468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314172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48280" y="3517920"/>
            <a:ext cx="288720" cy="2872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37040" y="346716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3513240"/>
            <a:ext cx="14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3480" y="1924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98920" y="3357720"/>
            <a:ext cx="34740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28880" y="3448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27440" y="3443400"/>
            <a:ext cx="218880" cy="290520"/>
          </a:xfrm>
          <a:custGeom>
            <a:avLst/>
            <a:gdLst/>
            <a:ahLst/>
            <a:rect l="l" t="t" r="r" b="b"/>
            <a:pathLst>
              <a:path w="138" h="183">
                <a:moveTo>
                  <a:pt x="0" y="180"/>
                </a:moveTo>
                <a:lnTo>
                  <a:pt x="133" y="183"/>
                </a:lnTo>
                <a:lnTo>
                  <a:pt x="138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365720"/>
            <a:ext cx="1295640" cy="863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365720"/>
            <a:ext cx="129564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4365720"/>
            <a:ext cx="1295280" cy="863640"/>
          </a:xfrm>
          <a:prstGeom prst="rect">
            <a:avLst/>
          </a:prstGeom>
          <a:solidFill>
            <a:srgbClr val="66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64000" y="3112920"/>
            <a:ext cx="1295640" cy="863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1854360"/>
            <a:ext cx="1295640" cy="863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133720"/>
            <a:ext cx="505080" cy="50472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0000" y="1989000"/>
            <a:ext cx="504720" cy="50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6760" y="1989000"/>
            <a:ext cx="507960" cy="505080"/>
          </a:xfrm>
          <a:custGeom>
            <a:avLst/>
            <a:gdLst/>
            <a:ahLst/>
            <a:rect l="l" t="t" r="r" b="b"/>
            <a:pathLst>
              <a:path w="320" h="318">
                <a:moveTo>
                  <a:pt x="320" y="88"/>
                </a:moveTo>
                <a:lnTo>
                  <a:pt x="318" y="0"/>
                </a:lnTo>
                <a:lnTo>
                  <a:pt x="0" y="0"/>
                </a:lnTo>
                <a:lnTo>
                  <a:pt x="3" y="318"/>
                </a:lnTo>
                <a:lnTo>
                  <a:pt x="183" y="315"/>
                </a:lnTo>
                <a:lnTo>
                  <a:pt x="183" y="88"/>
                </a:lnTo>
                <a:lnTo>
                  <a:pt x="320" y="88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22920" y="3284640"/>
            <a:ext cx="347760" cy="37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342900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1480" y="3282840"/>
            <a:ext cx="349200" cy="368280"/>
          </a:xfrm>
          <a:custGeom>
            <a:avLst/>
            <a:gdLst/>
            <a:ahLst/>
            <a:rect l="l" t="t" r="r" b="b"/>
            <a:pathLst>
              <a:path w="220" h="232">
                <a:moveTo>
                  <a:pt x="220" y="92"/>
                </a:moveTo>
                <a:lnTo>
                  <a:pt x="220" y="0"/>
                </a:lnTo>
                <a:lnTo>
                  <a:pt x="0" y="0"/>
                </a:lnTo>
                <a:lnTo>
                  <a:pt x="0" y="232"/>
                </a:lnTo>
                <a:lnTo>
                  <a:pt x="92" y="232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4581360"/>
            <a:ext cx="347760" cy="378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25960" y="467208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4508640"/>
            <a:ext cx="360360" cy="43164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56000" y="442584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98920" y="4518000"/>
            <a:ext cx="374400" cy="4129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75080" y="4613400"/>
            <a:ext cx="374760" cy="41256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62480" y="4610160"/>
            <a:ext cx="374760" cy="412560"/>
          </a:xfrm>
          <a:custGeom>
            <a:avLst/>
            <a:gdLst/>
            <a:ahLst/>
            <a:rect l="l" t="t" r="r" b="b"/>
            <a:pathLst>
              <a:path w="236" h="260">
                <a:moveTo>
                  <a:pt x="132" y="0"/>
                </a:moveTo>
                <a:lnTo>
                  <a:pt x="234" y="0"/>
                </a:lnTo>
                <a:lnTo>
                  <a:pt x="236" y="256"/>
                </a:lnTo>
                <a:lnTo>
                  <a:pt x="0" y="260"/>
                </a:lnTo>
                <a:lnTo>
                  <a:pt x="0" y="20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87760" y="4513320"/>
            <a:ext cx="377640" cy="428400"/>
          </a:xfrm>
          <a:custGeom>
            <a:avLst/>
            <a:gdLst/>
            <a:ahLst/>
            <a:rect l="l" t="t" r="r" b="b"/>
            <a:pathLst>
              <a:path w="238" h="270">
                <a:moveTo>
                  <a:pt x="238" y="0"/>
                </a:moveTo>
                <a:lnTo>
                  <a:pt x="140" y="1"/>
                </a:lnTo>
                <a:lnTo>
                  <a:pt x="136" y="209"/>
                </a:lnTo>
                <a:lnTo>
                  <a:pt x="0" y="209"/>
                </a:lnTo>
                <a:lnTo>
                  <a:pt x="0" y="269"/>
                </a:lnTo>
                <a:lnTo>
                  <a:pt x="238" y="270"/>
                </a:lnTo>
                <a:lnTo>
                  <a:pt x="238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348000" y="4437000"/>
            <a:ext cx="360360" cy="430200"/>
          </a:xfrm>
          <a:prstGeom prst="rect">
            <a:avLst/>
          </a:prstGeom>
          <a:solidFill>
            <a:srgbClr val="ffffff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4581360"/>
            <a:ext cx="215640" cy="208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54400" y="4770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755640" y="1268280"/>
            <a:ext cx="5184720" cy="374508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36360" y="5969160"/>
            <a:ext cx="66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692440" y="5156280"/>
            <a:ext cx="2004840" cy="1440"/>
          </a:xfrm>
          <a:custGeom>
            <a:avLst/>
            <a:gdLst/>
            <a:ahLst/>
            <a:rect l="l" t="t" r="r" b="b"/>
            <a:pathLst>
              <a:path w="1263" h="1">
                <a:moveTo>
                  <a:pt x="1263" y="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87960" y="2219400"/>
            <a:ext cx="1800" cy="1384200"/>
          </a:xfrm>
          <a:custGeom>
            <a:avLst/>
            <a:gdLst/>
            <a:ahLst/>
            <a:rect l="l" t="t" r="r" b="b"/>
            <a:pathLst>
              <a:path w="1" h="872">
                <a:moveTo>
                  <a:pt x="0" y="0"/>
                </a:moveTo>
                <a:lnTo>
                  <a:pt x="0" y="872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2451240"/>
            <a:ext cx="11160" cy="1366560"/>
          </a:xfrm>
          <a:custGeom>
            <a:avLst/>
            <a:gdLst/>
            <a:ahLst/>
            <a:rect l="l" t="t" r="r" b="b"/>
            <a:pathLst>
              <a:path w="7" h="861">
                <a:moveTo>
                  <a:pt x="0" y="861"/>
                </a:moveTo>
                <a:lnTo>
                  <a:pt x="7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76440" y="1085760"/>
            <a:ext cx="2146320" cy="1800"/>
          </a:xfrm>
          <a:custGeom>
            <a:avLst/>
            <a:gdLst/>
            <a:ahLst/>
            <a:rect l="l" t="t" r="r" b="b"/>
            <a:pathLst>
              <a:path w="1352" h="1">
                <a:moveTo>
                  <a:pt x="0" y="0"/>
                </a:moveTo>
                <a:lnTo>
                  <a:pt x="135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68840" y="774720"/>
            <a:ext cx="1187640" cy="1066680"/>
          </a:xfrm>
          <a:custGeom>
            <a:avLst/>
            <a:gdLst/>
            <a:ahLst/>
            <a:rect l="l" t="t" r="r" b="b"/>
            <a:pathLst>
              <a:path w="748" h="672">
                <a:moveTo>
                  <a:pt x="748" y="0"/>
                </a:moveTo>
                <a:lnTo>
                  <a:pt x="240" y="316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08560" y="1314360"/>
            <a:ext cx="558720" cy="368280"/>
          </a:xfrm>
          <a:custGeom>
            <a:avLst/>
            <a:gdLst/>
            <a:ahLst/>
            <a:rect l="l" t="t" r="r" b="b"/>
            <a:pathLst>
              <a:path w="352" h="232">
                <a:moveTo>
                  <a:pt x="0" y="8"/>
                </a:moveTo>
                <a:lnTo>
                  <a:pt x="352" y="0"/>
                </a:lnTo>
                <a:lnTo>
                  <a:pt x="176" y="23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424480" y="1293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89440" y="1479600"/>
            <a:ext cx="203400" cy="514440"/>
          </a:xfrm>
          <a:custGeom>
            <a:avLst/>
            <a:gdLst/>
            <a:ahLst/>
            <a:rect l="l" t="t" r="r" b="b"/>
            <a:pathLst>
              <a:path w="128" h="324">
                <a:moveTo>
                  <a:pt x="128" y="324"/>
                </a:moveTo>
                <a:lnTo>
                  <a:pt x="128" y="0"/>
                </a:lnTo>
                <a:lnTo>
                  <a:pt x="0" y="2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1811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300720" y="1230480"/>
            <a:ext cx="2843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BND/BND touching segment B is right (R) of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source segments A1 and A2, it is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enerated edges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gments are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97200" y="98100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891040" y="13636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7400" y="16160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91320" y="3409920"/>
            <a:ext cx="941400" cy="660600"/>
          </a:xfrm>
          <a:custGeom>
            <a:avLst/>
            <a:gdLst/>
            <a:ahLst/>
            <a:rect l="l" t="t" r="r" b="b"/>
            <a:pathLst>
              <a:path w="593" h="416">
                <a:moveTo>
                  <a:pt x="593" y="100"/>
                </a:moveTo>
                <a:lnTo>
                  <a:pt x="85" y="41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91040" y="3635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1040" y="406728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14840" y="4629240"/>
            <a:ext cx="1543320" cy="981000"/>
          </a:xfrm>
          <a:custGeom>
            <a:avLst/>
            <a:gdLst/>
            <a:ahLst/>
            <a:rect l="l" t="t" r="r" b="b"/>
            <a:pathLst>
              <a:path w="972" h="618">
                <a:moveTo>
                  <a:pt x="972" y="0"/>
                </a:moveTo>
                <a:lnTo>
                  <a:pt x="264" y="228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360760" y="49737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91040" y="46101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00"/>
                </a:solidFill>
                <a:latin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781600" y="4543560"/>
            <a:ext cx="200160" cy="819000"/>
          </a:xfrm>
          <a:custGeom>
            <a:avLst/>
            <a:gdLst/>
            <a:ahLst/>
            <a:rect l="l" t="t" r="r" b="b"/>
            <a:pathLst>
              <a:path w="126" h="516">
                <a:moveTo>
                  <a:pt x="126" y="0"/>
                </a:moveTo>
                <a:lnTo>
                  <a:pt x="114" y="324"/>
                </a:lnTo>
                <a:lnTo>
                  <a:pt x="0" y="51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15040" y="5057640"/>
            <a:ext cx="485640" cy="352440"/>
          </a:xfrm>
          <a:custGeom>
            <a:avLst/>
            <a:gdLst/>
            <a:ahLst/>
            <a:rect l="l" t="t" r="r" b="b"/>
            <a:pathLst>
              <a:path w="306" h="222">
                <a:moveTo>
                  <a:pt x="0" y="12"/>
                </a:moveTo>
                <a:lnTo>
                  <a:pt x="306" y="0"/>
                </a:lnTo>
                <a:lnTo>
                  <a:pt x="150" y="22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83040" y="5122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340600" y="51195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 rot="462000">
            <a:off x="7653240" y="310212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rot="21210000">
            <a:off x="8373960" y="3101760"/>
            <a:ext cx="67176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52400" y="5229360"/>
            <a:ext cx="3240" cy="733320"/>
          </a:xfrm>
          <a:custGeom>
            <a:avLst/>
            <a:gdLst/>
            <a:ahLst/>
            <a:rect l="l" t="t" r="r" b="b"/>
            <a:pathLst>
              <a:path w="2" h="462">
                <a:moveTo>
                  <a:pt x="0" y="462"/>
                </a:moveTo>
                <a:lnTo>
                  <a:pt x="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171468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900000" y="180036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5840" y="1809720"/>
            <a:ext cx="33336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58600" y="19591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315720" y="19540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1" name=""/>
          <p:cNvSpPr/>
          <p:nvPr/>
        </p:nvSpPr>
        <p:spPr>
          <a:xfrm>
            <a:off x="132120" y="23036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4320" y="230184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596360" y="76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010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965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077320" y="1398600"/>
            <a:ext cx="237960" cy="144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13208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>
            <a:off x="7596360" y="1700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01080" y="1843200"/>
            <a:ext cx="21600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39000" y="1900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077320" y="233352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253360" y="225576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0320" y="4533840"/>
            <a:ext cx="106560" cy="666720"/>
          </a:xfrm>
          <a:custGeom>
            <a:avLst/>
            <a:gdLst/>
            <a:ahLst/>
            <a:rect l="l" t="t" r="r" b="b"/>
            <a:pathLst>
              <a:path w="67" h="420">
                <a:moveTo>
                  <a:pt x="0" y="420"/>
                </a:moveTo>
                <a:lnTo>
                  <a:pt x="67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5229360"/>
            <a:ext cx="628560" cy="171360"/>
          </a:xfrm>
          <a:custGeom>
            <a:avLst/>
            <a:gdLst/>
            <a:ahLst/>
            <a:rect l="l" t="t" r="r" b="b"/>
            <a:pathLst>
              <a:path w="396" h="108">
                <a:moveTo>
                  <a:pt x="0" y="0"/>
                </a:moveTo>
                <a:lnTo>
                  <a:pt x="396" y="108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82560" y="51436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98560" y="4762440"/>
            <a:ext cx="358920" cy="486000"/>
          </a:xfrm>
          <a:custGeom>
            <a:avLst/>
            <a:gdLst/>
            <a:ahLst/>
            <a:rect l="l" t="t" r="r" b="b"/>
            <a:pathLst>
              <a:path w="226" h="306">
                <a:moveTo>
                  <a:pt x="46" y="0"/>
                </a:moveTo>
                <a:lnTo>
                  <a:pt x="0" y="242"/>
                </a:lnTo>
                <a:lnTo>
                  <a:pt x="226" y="30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76240" y="5362560"/>
            <a:ext cx="295200" cy="466920"/>
          </a:xfrm>
          <a:custGeom>
            <a:avLst/>
            <a:gdLst/>
            <a:ahLst/>
            <a:rect l="l" t="t" r="r" b="b"/>
            <a:pathLst>
              <a:path w="186" h="294">
                <a:moveTo>
                  <a:pt x="0" y="294"/>
                </a:moveTo>
                <a:lnTo>
                  <a:pt x="6" y="0"/>
                </a:lnTo>
                <a:lnTo>
                  <a:pt x="186" y="5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57160" y="48531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9640" y="54547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1685880" y="375444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r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62600" y="5453640"/>
            <a:ext cx="33264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94560" y="394668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99280" y="40892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740720" y="422100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305920" y="4105440"/>
            <a:ext cx="9360" cy="199800"/>
          </a:xfrm>
          <a:custGeom>
            <a:avLst/>
            <a:gdLst/>
            <a:ahLst/>
            <a:rect l="l" t="t" r="r" b="b"/>
            <a:pathLst>
              <a:path w="6" h="126">
                <a:moveTo>
                  <a:pt x="6" y="0"/>
                </a:moveTo>
                <a:lnTo>
                  <a:pt x="0" y="126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242200" y="40338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5433840" y="37544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9" name=""/>
          <p:cNvSpPr/>
          <p:nvPr/>
        </p:nvSpPr>
        <p:spPr>
          <a:xfrm>
            <a:off x="8099280" y="5241960"/>
            <a:ext cx="720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94280" y="4580640"/>
            <a:ext cx="3326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317080" y="5238720"/>
            <a:ext cx="357120" cy="3459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667720" y="5248440"/>
            <a:ext cx="9720" cy="228600"/>
          </a:xfrm>
          <a:custGeom>
            <a:avLst/>
            <a:gdLst/>
            <a:ahLst/>
            <a:rect l="l" t="t" r="r" b="b"/>
            <a:pathLst>
              <a:path w="6" h="144">
                <a:moveTo>
                  <a:pt x="0" y="144"/>
                </a:moveTo>
                <a:lnTo>
                  <a:pt x="6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604360" y="51577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325000" y="3381480"/>
            <a:ext cx="738000" cy="85680"/>
          </a:xfrm>
          <a:custGeom>
            <a:avLst/>
            <a:gdLst/>
            <a:ahLst/>
            <a:rect l="l" t="t" r="r" b="b"/>
            <a:pathLst>
              <a:path w="465" h="54">
                <a:moveTo>
                  <a:pt x="465" y="0"/>
                </a:moveTo>
                <a:lnTo>
                  <a:pt x="0" y="5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8329680" y="2571840"/>
            <a:ext cx="119160" cy="838080"/>
          </a:xfrm>
          <a:custGeom>
            <a:avLst/>
            <a:gdLst/>
            <a:ahLst/>
            <a:rect l="l" t="t" r="r" b="b"/>
            <a:pathLst>
              <a:path w="75" h="528">
                <a:moveTo>
                  <a:pt x="0" y="528"/>
                </a:moveTo>
                <a:lnTo>
                  <a:pt x="75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8237520" y="3328920"/>
            <a:ext cx="171360" cy="2062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462000">
            <a:off x="8353440" y="2722680"/>
            <a:ext cx="344520" cy="71280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465760" y="3206880"/>
            <a:ext cx="109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/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914600" y="3187800"/>
            <a:ext cx="141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54040" y="3402000"/>
            <a:ext cx="179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8241840" y="3513240"/>
            <a:ext cx="18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B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157600" y="3021120"/>
            <a:ext cx="147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669900"/>
                </a:solidFill>
                <a:latin typeface="Times New Roman"/>
              </a:rPr>
              <a:t>I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577280" y="3343320"/>
            <a:ext cx="718920" cy="109440"/>
          </a:xfrm>
          <a:custGeom>
            <a:avLst/>
            <a:gdLst/>
            <a:ahLst/>
            <a:rect l="l" t="t" r="r" b="b"/>
            <a:pathLst>
              <a:path w="453" h="69">
                <a:moveTo>
                  <a:pt x="453" y="69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3760" y="234000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tur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23960" y="2306520"/>
            <a:ext cx="38160" cy="551160"/>
          </a:xfrm>
          <a:custGeom>
            <a:avLst/>
            <a:gdLst/>
            <a:ahLst/>
            <a:rect l="l" t="t" r="r" b="b"/>
            <a:pathLst>
              <a:path w="24" h="347">
                <a:moveTo>
                  <a:pt x="24" y="0"/>
                </a:moveTo>
                <a:lnTo>
                  <a:pt x="0" y="347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6040" y="233676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4360" y="2249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95320" y="2487600"/>
            <a:ext cx="409680" cy="274680"/>
          </a:xfrm>
          <a:custGeom>
            <a:avLst/>
            <a:gdLst/>
            <a:ahLst/>
            <a:rect l="l" t="t" r="r" b="b"/>
            <a:pathLst>
              <a:path w="258" h="173">
                <a:moveTo>
                  <a:pt x="258" y="3"/>
                </a:moveTo>
                <a:lnTo>
                  <a:pt x="3" y="0"/>
                </a:lnTo>
                <a:lnTo>
                  <a:pt x="0" y="173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85840" y="2482920"/>
            <a:ext cx="333360" cy="298440"/>
          </a:xfrm>
          <a:custGeom>
            <a:avLst/>
            <a:gdLst/>
            <a:ahLst/>
            <a:rect l="l" t="t" r="r" b="b"/>
            <a:pathLst>
              <a:path w="210" h="188">
                <a:moveTo>
                  <a:pt x="0" y="0"/>
                </a:moveTo>
                <a:lnTo>
                  <a:pt x="210" y="6"/>
                </a:lnTo>
                <a:lnTo>
                  <a:pt x="174" y="18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1280" y="24969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2720" y="24922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687680" y="860400"/>
          <a:ext cx="1584000" cy="254484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x le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utbou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4" name=""/>
          <p:cNvSpPr/>
          <p:nvPr/>
        </p:nvSpPr>
        <p:spPr>
          <a:xfrm>
            <a:off x="122400" y="2106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4600" y="2104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43564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7596360" y="105408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56440" y="119844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839000" y="1254240"/>
            <a:ext cx="282600" cy="27756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317080" y="1198440"/>
            <a:ext cx="237960" cy="1800"/>
          </a:xfrm>
          <a:custGeom>
            <a:avLst/>
            <a:gdLst/>
            <a:ahLst/>
            <a:rect l="l" t="t" r="r" b="b"/>
            <a:pathLst>
              <a:path w="150" h="1">
                <a:moveTo>
                  <a:pt x="150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244000" y="1127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596360" y="1989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8317080" y="2133720"/>
            <a:ext cx="2872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839000" y="218916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317080" y="2133720"/>
            <a:ext cx="293400" cy="1440"/>
          </a:xfrm>
          <a:custGeom>
            <a:avLst/>
            <a:gdLst/>
            <a:ahLst/>
            <a:rect l="l" t="t" r="r" b="b"/>
            <a:pathLst>
              <a:path w="185" h="1">
                <a:moveTo>
                  <a:pt x="185" y="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244000" y="20606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596360" y="292428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rot="2302200">
            <a:off x="8413920" y="2995560"/>
            <a:ext cx="43164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39000" y="3124080"/>
            <a:ext cx="282600" cy="277920"/>
          </a:xfrm>
          <a:custGeom>
            <a:avLst/>
            <a:gdLst/>
            <a:ahLst/>
            <a:rect l="l" t="t" r="r" b="b"/>
            <a:pathLst>
              <a:path w="178" h="175">
                <a:moveTo>
                  <a:pt x="0" y="86"/>
                </a:moveTo>
                <a:cubicBezTo>
                  <a:pt x="3" y="77"/>
                  <a:pt x="4" y="47"/>
                  <a:pt x="17" y="34"/>
                </a:cubicBezTo>
                <a:cubicBezTo>
                  <a:pt x="30" y="20"/>
                  <a:pt x="55" y="4"/>
                  <a:pt x="76" y="2"/>
                </a:cubicBezTo>
                <a:cubicBezTo>
                  <a:pt x="97" y="0"/>
                  <a:pt x="127" y="9"/>
                  <a:pt x="144" y="20"/>
                </a:cubicBezTo>
                <a:cubicBezTo>
                  <a:pt x="161" y="32"/>
                  <a:pt x="174" y="54"/>
                  <a:pt x="176" y="74"/>
                </a:cubicBezTo>
                <a:cubicBezTo>
                  <a:pt x="178" y="93"/>
                  <a:pt x="171" y="124"/>
                  <a:pt x="158" y="140"/>
                </a:cubicBezTo>
                <a:cubicBezTo>
                  <a:pt x="145" y="157"/>
                  <a:pt x="114" y="168"/>
                  <a:pt x="95" y="172"/>
                </a:cubicBezTo>
                <a:cubicBezTo>
                  <a:pt x="76" y="175"/>
                  <a:pt x="52" y="161"/>
                  <a:pt x="40" y="159"/>
                </a:cubicBez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312040" y="2927520"/>
            <a:ext cx="304920" cy="355320"/>
          </a:xfrm>
          <a:custGeom>
            <a:avLst/>
            <a:gdLst/>
            <a:ahLst/>
            <a:rect l="l" t="t" r="r" b="b"/>
            <a:pathLst>
              <a:path w="192" h="224">
                <a:moveTo>
                  <a:pt x="192" y="0"/>
                </a:moveTo>
                <a:lnTo>
                  <a:pt x="0" y="224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44000" y="3213000"/>
            <a:ext cx="14436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25520" y="4911840"/>
            <a:ext cx="660240" cy="663480"/>
          </a:xfrm>
          <a:custGeom>
            <a:avLst/>
            <a:gdLst/>
            <a:ahLst/>
            <a:rect l="l" t="t" r="r" b="b"/>
            <a:pathLst>
              <a:path w="416" h="418">
                <a:moveTo>
                  <a:pt x="416" y="410"/>
                </a:moveTo>
                <a:lnTo>
                  <a:pt x="0" y="418"/>
                </a:lnTo>
                <a:lnTo>
                  <a:pt x="376" y="0"/>
                </a:lnTo>
                <a:lnTo>
                  <a:pt x="416" y="410"/>
                </a:lnTo>
                <a:close/>
              </a:path>
            </a:pathLst>
          </a:cu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8560" y="4795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5280" y="4843440"/>
            <a:ext cx="649440" cy="747720"/>
          </a:xfrm>
          <a:custGeom>
            <a:avLst/>
            <a:gdLst/>
            <a:ahLst/>
            <a:rect l="l" t="t" r="r" b="b"/>
            <a:pathLst>
              <a:path w="409" h="471">
                <a:moveTo>
                  <a:pt x="0" y="471"/>
                </a:moveTo>
                <a:lnTo>
                  <a:pt x="409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" y="496584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55680" y="558792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4000" y="55008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8600" y="460368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02720" y="550692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92560" y="4579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8120" y="5156280"/>
            <a:ext cx="77760" cy="28872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92160" y="5540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” 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9im</a:t>
            </a:r>
            <a:r>
              <a:rPr b="1" lang="en-US" sz="54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6" name=""/>
          <p:cNvGraphicFramePr/>
          <p:nvPr/>
        </p:nvGraphicFramePr>
        <p:xfrm>
          <a:off x="1687680" y="126216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5148360" y="126828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8" name=""/>
          <p:cNvGraphicFramePr/>
          <p:nvPr/>
        </p:nvGraphicFramePr>
        <p:xfrm>
          <a:off x="1687680" y="4070520"/>
          <a:ext cx="1875960" cy="231084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9" name=""/>
          <p:cNvGraphicFramePr/>
          <p:nvPr/>
        </p:nvGraphicFramePr>
        <p:xfrm>
          <a:off x="5148360" y="4076640"/>
          <a:ext cx="1799640" cy="2304720"/>
        </p:xfrm>
        <a:graphic>
          <a:graphicData uri="http://schemas.openxmlformats.org/drawingml/2006/table">
            <a:tbl>
              <a:tblPr/>
              <a:tblGrid>
                <a:gridCol w="448920"/>
                <a:gridCol w="452880"/>
                <a:gridCol w="448920"/>
                <a:gridCol w="448920"/>
              </a:tblGrid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50" name=""/>
          <p:cNvSpPr/>
          <p:nvPr/>
        </p:nvSpPr>
        <p:spPr>
          <a:xfrm>
            <a:off x="147600" y="524988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85960" y="4640400"/>
            <a:ext cx="1440" cy="59184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08200" y="5156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023840" y="470700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982440" y="48657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093080" y="1187280"/>
            <a:ext cx="20509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tate matrix telling if the de9im matrix cells ha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their final value (tr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or not yet (fal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48360" y="3716280"/>
            <a:ext cx="2051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s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any operations do not need all cell values, they don’t care about some. So as soon as all necessary values are final, the comparison can sto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Arial"/>
              </a:rPr>
              <a:t>State matrix does not need to be stored, alternately (better) a matrix of end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564000" y="1197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9im matr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35280" y="4060800"/>
            <a:ext cx="1224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w de9im matrix. Cell values can only incr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-32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+st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4208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/p after ev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1" name=""/>
          <p:cNvSpPr/>
          <p:nvPr/>
        </p:nvSpPr>
        <p:spPr>
          <a:xfrm>
            <a:off x="34920" y="194472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73280" y="1328760"/>
            <a:ext cx="144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5160" y="18511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4" name=""/>
          <p:cNvGraphicFramePr/>
          <p:nvPr/>
        </p:nvGraphicFramePr>
        <p:xfrm>
          <a:off x="6872400" y="76500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5" name=""/>
          <p:cNvGraphicFramePr/>
          <p:nvPr/>
        </p:nvGraphicFramePr>
        <p:xfrm>
          <a:off x="1687680" y="3781440"/>
          <a:ext cx="1876320" cy="266868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&gt;-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ck 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6" name=""/>
          <p:cNvGraphicFramePr/>
          <p:nvPr/>
        </p:nvGraphicFramePr>
        <p:xfrm>
          <a:off x="4932360" y="3789360"/>
          <a:ext cx="187596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000"/>
              </a:tblGrid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"/>
          <p:cNvSpPr/>
          <p:nvPr/>
        </p:nvSpPr>
        <p:spPr>
          <a:xfrm>
            <a:off x="6172200" y="1930320"/>
            <a:ext cx="635040" cy="1800"/>
          </a:xfrm>
          <a:custGeom>
            <a:avLst/>
            <a:gdLst/>
            <a:ahLst/>
            <a:rect l="l" t="t" r="r" b="b"/>
            <a:pathLst>
              <a:path w="400" h="1">
                <a:moveTo>
                  <a:pt x="0" y="0"/>
                </a:moveTo>
                <a:lnTo>
                  <a:pt x="40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060720" y="3048120"/>
            <a:ext cx="3556080" cy="583920"/>
          </a:xfrm>
          <a:custGeom>
            <a:avLst/>
            <a:gdLst/>
            <a:ahLst/>
            <a:rect l="l" t="t" r="r" b="b"/>
            <a:pathLst>
              <a:path w="2240" h="368">
                <a:moveTo>
                  <a:pt x="2240" y="0"/>
                </a:moveTo>
                <a:lnTo>
                  <a:pt x="0" y="368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708360" y="4797360"/>
            <a:ext cx="1008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706160" y="460548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948360" y="4797360"/>
            <a:ext cx="5763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1471680" y="765000"/>
          <a:ext cx="1868040" cy="2232000"/>
        </p:xfrm>
        <a:graphic>
          <a:graphicData uri="http://schemas.openxmlformats.org/drawingml/2006/table">
            <a:tbl>
              <a:tblPr/>
              <a:tblGrid>
                <a:gridCol w="466200"/>
                <a:gridCol w="469440"/>
                <a:gridCol w="466200"/>
                <a:gridCol w="466200"/>
              </a:tblGrid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/s 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3" name=""/>
          <p:cNvSpPr/>
          <p:nvPr/>
        </p:nvSpPr>
        <p:spPr>
          <a:xfrm>
            <a:off x="3441600" y="1917720"/>
            <a:ext cx="698760" cy="1440"/>
          </a:xfrm>
          <a:custGeom>
            <a:avLst/>
            <a:gdLst/>
            <a:ahLst/>
            <a:rect l="l" t="t" r="r" b="b"/>
            <a:pathLst>
              <a:path w="440" h="1">
                <a:moveTo>
                  <a:pt x="0" y="0"/>
                </a:moveTo>
                <a:lnTo>
                  <a:pt x="440" y="0"/>
                </a:lnTo>
              </a:path>
            </a:pathLst>
          </a:custGeom>
          <a:noFill/>
          <a:ln w="507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39640" y="4506840"/>
            <a:ext cx="505080" cy="50472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826920" y="472428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9280" y="1617840"/>
            <a:ext cx="1152720" cy="307800"/>
          </a:xfrm>
          <a:prstGeom prst="rect">
            <a:avLst/>
          </a:prstGeom>
          <a:solidFill>
            <a:srgbClr val="66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09640" y="1554120"/>
            <a:ext cx="344520" cy="368280"/>
          </a:xfrm>
          <a:prstGeom prst="rect">
            <a:avLst/>
          </a:prstGeom>
          <a:solidFill>
            <a:srgbClr val="33339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52200" y="8100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augmented s/s de9im matrix will contai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179280" y="549360"/>
          <a:ext cx="1876320" cy="2946240"/>
        </p:xfrm>
        <a:graphic>
          <a:graphicData uri="http://schemas.openxmlformats.org/drawingml/2006/table">
            <a:tbl>
              <a:tblPr/>
              <a:tblGrid>
                <a:gridCol w="468360"/>
                <a:gridCol w="471600"/>
                <a:gridCol w="468360"/>
                <a:gridCol w="46800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llinear) oppo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8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tion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0" name=""/>
          <p:cNvSpPr/>
          <p:nvPr/>
        </p:nvSpPr>
        <p:spPr>
          <a:xfrm>
            <a:off x="5940360" y="83520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88120" y="549360"/>
            <a:ext cx="527040" cy="774720"/>
          </a:xfrm>
          <a:custGeom>
            <a:avLst/>
            <a:gdLst/>
            <a:ahLst/>
            <a:rect l="l" t="t" r="r" b="b"/>
            <a:pathLst>
              <a:path w="332" h="488">
                <a:moveTo>
                  <a:pt x="0" y="488"/>
                </a:moveTo>
                <a:lnTo>
                  <a:pt x="332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546960" y="777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218280" y="12574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334200" y="771480"/>
            <a:ext cx="584280" cy="889200"/>
          </a:xfrm>
          <a:custGeom>
            <a:avLst/>
            <a:gdLst/>
            <a:ahLst/>
            <a:rect l="l" t="t" r="r" b="b"/>
            <a:pathLst>
              <a:path w="368" h="560">
                <a:moveTo>
                  <a:pt x="368" y="0"/>
                </a:moveTo>
                <a:lnTo>
                  <a:pt x="0" y="5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73880" y="879480"/>
            <a:ext cx="546120" cy="812880"/>
          </a:xfrm>
          <a:custGeom>
            <a:avLst/>
            <a:gdLst/>
            <a:ahLst/>
            <a:rect l="l" t="t" r="r" b="b"/>
            <a:pathLst>
              <a:path w="344" h="512">
                <a:moveTo>
                  <a:pt x="0" y="512"/>
                </a:moveTo>
                <a:lnTo>
                  <a:pt x="344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1240" y="6330960"/>
            <a:ext cx="1328760" cy="4680"/>
          </a:xfrm>
          <a:custGeom>
            <a:avLst/>
            <a:gdLst/>
            <a:ahLst/>
            <a:rect l="l" t="t" r="r" b="b"/>
            <a:pathLst>
              <a:path w="837" h="3">
                <a:moveTo>
                  <a:pt x="837" y="0"/>
                </a:moveTo>
                <a:lnTo>
                  <a:pt x="0" y="3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429240" y="570240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351480" y="623736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567480" y="578808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526080" y="59468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101680" y="524988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54360" y="5380200"/>
            <a:ext cx="276120" cy="555480"/>
          </a:xfrm>
          <a:custGeom>
            <a:avLst/>
            <a:gdLst/>
            <a:ahLst/>
            <a:rect l="l" t="t" r="r" b="b"/>
            <a:pathLst>
              <a:path w="174" h="350">
                <a:moveTo>
                  <a:pt x="174" y="35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50920" y="585000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765440" y="555768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765440" y="590076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621080" y="522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75360" y="5597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7159680" y="11592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99" name=""/>
          <p:cNvGraphicFramePr/>
          <p:nvPr/>
        </p:nvGraphicFramePr>
        <p:xfrm>
          <a:off x="7159680" y="3716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2627280" y="378936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950760" y="5256360"/>
            <a:ext cx="19080" cy="1419120"/>
          </a:xfrm>
          <a:custGeom>
            <a:avLst/>
            <a:gdLst/>
            <a:ahLst/>
            <a:rect l="l" t="t" r="r" b="b"/>
            <a:pathLst>
              <a:path w="12" h="894">
                <a:moveTo>
                  <a:pt x="12" y="89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8720" y="5054760"/>
            <a:ext cx="393840" cy="863280"/>
          </a:xfrm>
          <a:custGeom>
            <a:avLst/>
            <a:gdLst/>
            <a:ahLst/>
            <a:rect l="l" t="t" r="r" b="b"/>
            <a:pathLst>
              <a:path w="248" h="544">
                <a:moveTo>
                  <a:pt x="0" y="0"/>
                </a:moveTo>
                <a:lnTo>
                  <a:pt x="248" y="544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900000" y="585612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4520" y="5564160"/>
            <a:ext cx="266400" cy="990720"/>
          </a:xfrm>
          <a:custGeom>
            <a:avLst/>
            <a:gdLst/>
            <a:ahLst/>
            <a:rect l="l" t="t" r="r" b="b"/>
            <a:pathLst>
              <a:path w="168" h="624">
                <a:moveTo>
                  <a:pt x="160" y="624"/>
                </a:moveTo>
                <a:lnTo>
                  <a:pt x="168" y="296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4520" y="59072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580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7" name=""/>
          <p:cNvGraphicFramePr/>
          <p:nvPr/>
        </p:nvGraphicFramePr>
        <p:xfrm>
          <a:off x="2840040" y="549360"/>
          <a:ext cx="1876320" cy="231120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8" name=""/>
          <p:cNvSpPr/>
          <p:nvPr/>
        </p:nvSpPr>
        <p:spPr>
          <a:xfrm>
            <a:off x="2270160" y="15764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9" name=""/>
          <p:cNvGraphicFramePr/>
          <p:nvPr/>
        </p:nvGraphicFramePr>
        <p:xfrm>
          <a:off x="7113600" y="18900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755640" y="2620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>
            <a:off x="6568920" y="90792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56320" y="1619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491160" y="155880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4800" y="20192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67920" y="2413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24000" y="156996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" y="54936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8480" y="152568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803160" y="46958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960" y="581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08000" y="5491080"/>
            <a:ext cx="73188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6000" y="4865760"/>
            <a:ext cx="1800" cy="592200"/>
          </a:xfrm>
          <a:custGeom>
            <a:avLst/>
            <a:gdLst/>
            <a:ahLst/>
            <a:rect l="l" t="t" r="r" b="b"/>
            <a:pathLst>
              <a:path w="1" h="373">
                <a:moveTo>
                  <a:pt x="0" y="373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00280" y="5487840"/>
            <a:ext cx="731520" cy="7920"/>
          </a:xfrm>
          <a:custGeom>
            <a:avLst/>
            <a:gdLst/>
            <a:ahLst/>
            <a:rect l="l" t="t" r="r" b="b"/>
            <a:pathLst>
              <a:path w="461" h="5">
                <a:moveTo>
                  <a:pt x="461" y="0"/>
                </a:moveTo>
                <a:lnTo>
                  <a:pt x="0" y="5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68240" y="5400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984240" y="4951440"/>
            <a:ext cx="405000" cy="457200"/>
          </a:xfrm>
          <a:custGeom>
            <a:avLst/>
            <a:gdLst/>
            <a:ahLst/>
            <a:rect l="l" t="t" r="r" b="b"/>
            <a:pathLst>
              <a:path w="255" h="288">
                <a:moveTo>
                  <a:pt x="255" y="288"/>
                </a:moveTo>
                <a:lnTo>
                  <a:pt x="0" y="285"/>
                </a:lnTo>
                <a:lnTo>
                  <a:pt x="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69720" y="4960800"/>
            <a:ext cx="333720" cy="438120"/>
          </a:xfrm>
          <a:custGeom>
            <a:avLst/>
            <a:gdLst/>
            <a:ahLst/>
            <a:rect l="l" t="t" r="r" b="b"/>
            <a:pathLst>
              <a:path w="210" h="276">
                <a:moveTo>
                  <a:pt x="0" y="270"/>
                </a:moveTo>
                <a:lnTo>
                  <a:pt x="210" y="276"/>
                </a:lnTo>
                <a:lnTo>
                  <a:pt x="21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942840" y="51102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9960" y="51055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2050920" y="401148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16360" y="545472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cur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98200" y="545292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prev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95640" y="4010040"/>
          <a:ext cx="1584360" cy="2778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3" name=""/>
          <p:cNvSpPr/>
          <p:nvPr/>
        </p:nvSpPr>
        <p:spPr>
          <a:xfrm>
            <a:off x="1018800" y="5540400"/>
            <a:ext cx="461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9320" y="5560920"/>
            <a:ext cx="34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6699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90840" y="879480"/>
            <a:ext cx="290520" cy="708120"/>
          </a:xfrm>
          <a:custGeom>
            <a:avLst/>
            <a:gdLst/>
            <a:ahLst/>
            <a:rect l="l" t="t" r="r" b="b"/>
            <a:pathLst>
              <a:path w="183" h="446">
                <a:moveTo>
                  <a:pt x="0" y="446"/>
                </a:moveTo>
                <a:lnTo>
                  <a:pt x="183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32080" y="476280"/>
            <a:ext cx="150840" cy="1104840"/>
          </a:xfrm>
          <a:custGeom>
            <a:avLst/>
            <a:gdLst/>
            <a:ahLst/>
            <a:rect l="l" t="t" r="r" b="b"/>
            <a:pathLst>
              <a:path w="95" h="696">
                <a:moveTo>
                  <a:pt x="95" y="696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322800" y="148428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265920" y="539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503520" y="2313000"/>
            <a:ext cx="177840" cy="723960"/>
          </a:xfrm>
          <a:custGeom>
            <a:avLst/>
            <a:gdLst/>
            <a:ahLst/>
            <a:rect l="l" t="t" r="r" b="b"/>
            <a:pathLst>
              <a:path w="112" h="456">
                <a:moveTo>
                  <a:pt x="112" y="0"/>
                </a:moveTo>
                <a:lnTo>
                  <a:pt x="0" y="456"/>
                </a:lnTo>
              </a:path>
            </a:pathLst>
          </a:custGeom>
          <a:noFill/>
          <a:ln w="7632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274920" y="2147760"/>
            <a:ext cx="177840" cy="889200"/>
          </a:xfrm>
          <a:custGeom>
            <a:avLst/>
            <a:gdLst/>
            <a:ahLst/>
            <a:rect l="l" t="t" r="r" b="b"/>
            <a:pathLst>
              <a:path w="112" h="560">
                <a:moveTo>
                  <a:pt x="0" y="0"/>
                </a:moveTo>
                <a:lnTo>
                  <a:pt x="112" y="560"/>
                </a:lnTo>
              </a:path>
            </a:pathLst>
          </a:custGeom>
          <a:noFill/>
          <a:ln w="50760">
            <a:solidFill>
              <a:srgbClr val="66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3440" y="300816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601800" y="2360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313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697440" y="1108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28720" y="1036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6" name=""/>
          <p:cNvGraphicFramePr/>
          <p:nvPr/>
        </p:nvGraphicFramePr>
        <p:xfrm>
          <a:off x="3911760" y="260280"/>
          <a:ext cx="1876320" cy="2952720"/>
        </p:xfrm>
        <a:graphic>
          <a:graphicData uri="http://schemas.openxmlformats.org/drawingml/2006/table">
            <a:tbl>
              <a:tblPr/>
              <a:tblGrid>
                <a:gridCol w="468000"/>
                <a:gridCol w="471600"/>
                <a:gridCol w="468360"/>
                <a:gridCol w="468360"/>
              </a:tblGrid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0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50920" y="150840"/>
          <a:ext cx="1584360" cy="5356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touch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419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81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: --1-0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, 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over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2401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2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4567320" y="150840"/>
          <a:ext cx="1584360" cy="4030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3, touch b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05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EQ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6718320" y="150840"/>
          <a:ext cx="1584360" cy="32148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4, touch border 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/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1" name=""/>
          <p:cNvSpPr/>
          <p:nvPr/>
        </p:nvSpPr>
        <p:spPr>
          <a:xfrm>
            <a:off x="247680" y="56520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0920" y="1411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0920" y="1508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52320" y="14940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041480" y="1476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41480" y="57168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639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44400" y="9367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47640" y="585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84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38200" y="5824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38200" y="94284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039680" y="13352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36480" y="13366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965520" y="86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39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2544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5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85536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810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25400" y="333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106280" y="549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25244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5244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10628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5400" y="11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94000" y="55728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397240" y="15552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397240" y="16524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98640" y="1634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187800" y="162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91040" y="5634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789280" y="95580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386080" y="9572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10280" y="258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95720" y="13413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98960" y="9399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98960" y="9493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600360" y="9478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84480" y="9381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984480" y="13399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591000" y="17398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87800" y="174132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511800" y="1265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256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23302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47176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852640" y="125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001680" y="217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99700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285264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471760" y="758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27320" y="1457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3200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257280" y="907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52560" y="905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798720" y="10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798720" y="138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5256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259080" y="1538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557600" y="54756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4560840" y="1461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560840" y="1555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962600" y="1540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51400" y="15228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354640" y="5540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94608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549680" y="94788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384880" y="950760"/>
            <a:ext cx="144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384880" y="5493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88120" y="55872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789520" y="5572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173640" y="5475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173640" y="9493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00960" y="874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8920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4942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6353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0162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165640" y="208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160960" y="611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01624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635360" y="74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31648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2116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446440" y="51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841720" y="514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987880" y="620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5987880" y="995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584172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448240" y="1147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769000" y="13510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365800" y="135252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719760" y="54468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723000" y="14292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723000" y="15228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124760" y="15084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513560" y="14940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16800" y="5508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115040" y="94284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11840" y="94464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836040" y="246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540560" y="109044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7540560" y="689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9840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945560" y="69696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8329680" y="687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8329680" y="108900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856640" y="1014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665136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66564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79752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78400" y="112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327800" y="204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7323120" y="608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717840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797520" y="746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7472160" y="1206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747684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60248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7997760" y="654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8143560" y="7603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8143560" y="11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799776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603920" y="128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7924680" y="14907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7521480" y="14922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714240" y="631800"/>
            <a:ext cx="7920" cy="287280"/>
          </a:xfrm>
          <a:custGeom>
            <a:avLst/>
            <a:gdLst/>
            <a:ahLst/>
            <a:rect l="l" t="t" r="r" b="b"/>
            <a:pathLst>
              <a:path w="5" h="181">
                <a:moveTo>
                  <a:pt x="0" y="181"/>
                </a:moveTo>
                <a:lnTo>
                  <a:pt x="5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42960" y="96984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39760" y="97164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179280" y="655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150920" y="642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867960" y="797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5440" y="7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84000" y="6904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47640" y="57636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246480" y="85716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13320" y="480960"/>
            <a:ext cx="258840" cy="12600"/>
          </a:xfrm>
          <a:custGeom>
            <a:avLst/>
            <a:gdLst/>
            <a:ahLst/>
            <a:rect l="l" t="t" r="r" b="b"/>
            <a:pathLst>
              <a:path w="163" h="8">
                <a:moveTo>
                  <a:pt x="0" y="8"/>
                </a:moveTo>
                <a:lnTo>
                  <a:pt x="163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67560" y="625320"/>
            <a:ext cx="266760" cy="19080"/>
          </a:xfrm>
          <a:custGeom>
            <a:avLst/>
            <a:gdLst/>
            <a:ahLst/>
            <a:rect l="l" t="t" r="r" b="b"/>
            <a:pathLst>
              <a:path w="168" h="12">
                <a:moveTo>
                  <a:pt x="0" y="12"/>
                </a:moveTo>
                <a:lnTo>
                  <a:pt x="168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054080" y="495360"/>
            <a:ext cx="255600" cy="1440"/>
          </a:xfrm>
          <a:custGeom>
            <a:avLst/>
            <a:gdLst/>
            <a:ahLst/>
            <a:rect l="l" t="t" r="r" b="b"/>
            <a:pathLst>
              <a:path w="161" h="1">
                <a:moveTo>
                  <a:pt x="0" y="0"/>
                </a:moveTo>
                <a:lnTo>
                  <a:pt x="161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2" name=""/>
          <p:cNvGraphicFramePr/>
          <p:nvPr/>
        </p:nvGraphicFramePr>
        <p:xfrm>
          <a:off x="2509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5, touch co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3" name=""/>
          <p:cNvGraphicFramePr/>
          <p:nvPr/>
        </p:nvGraphicFramePr>
        <p:xfrm>
          <a:off x="2401920" y="150840"/>
          <a:ext cx="1584360" cy="2995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6, touch corner 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out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4" name=""/>
          <p:cNvGraphicFramePr/>
          <p:nvPr/>
        </p:nvGraphicFramePr>
        <p:xfrm>
          <a:off x="4567320" y="150840"/>
          <a:ext cx="1584360" cy="337356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7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5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x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95" name=""/>
          <p:cNvGraphicFramePr/>
          <p:nvPr/>
        </p:nvGraphicFramePr>
        <p:xfrm>
          <a:off x="6718320" y="150840"/>
          <a:ext cx="1584360" cy="32320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8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t segment interio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9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96" name=""/>
          <p:cNvSpPr/>
          <p:nvPr/>
        </p:nvSpPr>
        <p:spPr>
          <a:xfrm>
            <a:off x="4562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560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560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57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6138720" y="152280"/>
            <a:ext cx="972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148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357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557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73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506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498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66380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03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956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5956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10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4730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72880" y="554040"/>
            <a:ext cx="180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76120" y="152280"/>
            <a:ext cx="1800" cy="40500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76120" y="162000"/>
            <a:ext cx="392040" cy="468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77880" y="160200"/>
            <a:ext cx="387360" cy="504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066680" y="15876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069920" y="560520"/>
            <a:ext cx="180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68160" y="952560"/>
            <a:ext cx="40032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64960" y="954000"/>
            <a:ext cx="40032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89160" y="2556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0448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095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5064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731520" y="122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80920" y="21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76240" y="617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73152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0640" y="755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057320" y="54936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1054080" y="142920"/>
            <a:ext cx="365040" cy="39672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1432080" y="15552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47920" y="549360"/>
            <a:ext cx="384120" cy="39672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347840" y="4748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501560" y="539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190520" y="582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150920" y="276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439640" y="266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2417760" y="56052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421000" y="158760"/>
            <a:ext cx="1440" cy="404640"/>
          </a:xfrm>
          <a:custGeom>
            <a:avLst/>
            <a:gdLst/>
            <a:ahLst/>
            <a:rect l="l" t="t" r="r" b="b"/>
            <a:pathLst>
              <a:path w="1" h="255">
                <a:moveTo>
                  <a:pt x="0" y="25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421000" y="168120"/>
            <a:ext cx="392040" cy="5040"/>
          </a:xfrm>
          <a:custGeom>
            <a:avLst/>
            <a:gdLst/>
            <a:ahLst/>
            <a:rect l="l" t="t" r="r" b="b"/>
            <a:pathLst>
              <a:path w="247" h="3">
                <a:moveTo>
                  <a:pt x="0" y="3"/>
                </a:moveTo>
                <a:lnTo>
                  <a:pt x="247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822400" y="166680"/>
            <a:ext cx="387360" cy="4680"/>
          </a:xfrm>
          <a:custGeom>
            <a:avLst/>
            <a:gdLst/>
            <a:ahLst/>
            <a:rect l="l" t="t" r="r" b="b"/>
            <a:pathLst>
              <a:path w="244" h="3">
                <a:moveTo>
                  <a:pt x="0" y="3"/>
                </a:moveTo>
                <a:lnTo>
                  <a:pt x="244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11560" y="1652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14800" y="566640"/>
            <a:ext cx="1440" cy="395280"/>
          </a:xfrm>
          <a:custGeom>
            <a:avLst/>
            <a:gdLst/>
            <a:ahLst/>
            <a:rect l="l" t="t" r="r" b="b"/>
            <a:pathLst>
              <a:path w="1" h="249">
                <a:moveTo>
                  <a:pt x="0" y="0"/>
                </a:moveTo>
                <a:lnTo>
                  <a:pt x="1" y="249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813040" y="958680"/>
            <a:ext cx="399960" cy="180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09840" y="960480"/>
            <a:ext cx="399960" cy="1440"/>
          </a:xfrm>
          <a:custGeom>
            <a:avLst/>
            <a:gdLst/>
            <a:ahLst/>
            <a:rect l="l" t="t" r="r" b="b"/>
            <a:pathLst>
              <a:path w="252" h="1">
                <a:moveTo>
                  <a:pt x="252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534040" y="262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23493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35404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249552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876400" y="128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025800" y="220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020760" y="62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7640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95520" y="762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20920" y="714240"/>
            <a:ext cx="371520" cy="38448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18040" y="307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595680" y="32076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11520" y="714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511800" y="639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65520" y="704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54120" y="747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314520" y="44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03600" y="431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81640" y="93024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78400" y="523800"/>
            <a:ext cx="36504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756400" y="5364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5772240" y="93024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672520" y="8557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825880" y="920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514840" y="963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475240" y="657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763960" y="647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136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11840" y="146160"/>
            <a:ext cx="648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711840" y="15228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088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82900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8299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5088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708600" y="1733400"/>
            <a:ext cx="80028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682488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66578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66499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151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460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072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1072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6611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8817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532640" y="1349280"/>
            <a:ext cx="371520" cy="384120"/>
          </a:xfrm>
          <a:custGeom>
            <a:avLst/>
            <a:gdLst/>
            <a:ahLst/>
            <a:rect l="l" t="t" r="r" b="b"/>
            <a:pathLst>
              <a:path w="234" h="242">
                <a:moveTo>
                  <a:pt x="234" y="24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7529400" y="942840"/>
            <a:ext cx="365400" cy="397080"/>
          </a:xfrm>
          <a:custGeom>
            <a:avLst/>
            <a:gdLst/>
            <a:ahLst/>
            <a:rect l="l" t="t" r="r" b="b"/>
            <a:pathLst>
              <a:path w="230" h="250">
                <a:moveTo>
                  <a:pt x="0" y="250"/>
                </a:moveTo>
                <a:lnTo>
                  <a:pt x="23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07400" y="955800"/>
            <a:ext cx="387360" cy="387360"/>
          </a:xfrm>
          <a:custGeom>
            <a:avLst/>
            <a:gdLst/>
            <a:ahLst/>
            <a:rect l="l" t="t" r="r" b="b"/>
            <a:pathLst>
              <a:path w="244" h="244">
                <a:moveTo>
                  <a:pt x="0" y="0"/>
                </a:moveTo>
                <a:lnTo>
                  <a:pt x="244" y="24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923240" y="1349280"/>
            <a:ext cx="384120" cy="397080"/>
          </a:xfrm>
          <a:custGeom>
            <a:avLst/>
            <a:gdLst/>
            <a:ahLst/>
            <a:rect l="l" t="t" r="r" b="b"/>
            <a:pathLst>
              <a:path w="242" h="250">
                <a:moveTo>
                  <a:pt x="242" y="0"/>
                </a:moveTo>
                <a:lnTo>
                  <a:pt x="0" y="25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823520" y="12747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976880" y="1339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665840" y="1382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626240" y="1076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7914960" y="10666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116000" y="189000"/>
            <a:ext cx="14148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114560" y="700200"/>
            <a:ext cx="257040" cy="23796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3260880" y="318960"/>
            <a:ext cx="141120" cy="285840"/>
          </a:xfrm>
          <a:custGeom>
            <a:avLst/>
            <a:gdLst/>
            <a:ahLst/>
            <a:rect l="l" t="t" r="r" b="b"/>
            <a:pathLst>
              <a:path w="89" h="180">
                <a:moveTo>
                  <a:pt x="12" y="0"/>
                </a:moveTo>
                <a:lnTo>
                  <a:pt x="0" y="180"/>
                </a:lnTo>
                <a:lnTo>
                  <a:pt x="89" y="4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3259080" y="830160"/>
            <a:ext cx="257400" cy="238320"/>
          </a:xfrm>
          <a:custGeom>
            <a:avLst/>
            <a:gdLst/>
            <a:ahLst/>
            <a:rect l="l" t="t" r="r" b="b"/>
            <a:pathLst>
              <a:path w="162" h="150">
                <a:moveTo>
                  <a:pt x="162" y="150"/>
                </a:moveTo>
                <a:lnTo>
                  <a:pt x="9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5838840" y="581040"/>
            <a:ext cx="262080" cy="571320"/>
          </a:xfrm>
          <a:custGeom>
            <a:avLst/>
            <a:gdLst/>
            <a:ahLst/>
            <a:rect l="l" t="t" r="r" b="b"/>
            <a:pathLst>
              <a:path w="165" h="360">
                <a:moveTo>
                  <a:pt x="165" y="0"/>
                </a:moveTo>
                <a:lnTo>
                  <a:pt x="165" y="183"/>
                </a:lnTo>
                <a:lnTo>
                  <a:pt x="0" y="36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5891040" y="585720"/>
            <a:ext cx="314640" cy="695520"/>
          </a:xfrm>
          <a:custGeom>
            <a:avLst/>
            <a:gdLst/>
            <a:ahLst/>
            <a:rect l="l" t="t" r="r" b="b"/>
            <a:pathLst>
              <a:path w="198" h="438">
                <a:moveTo>
                  <a:pt x="0" y="0"/>
                </a:moveTo>
                <a:lnTo>
                  <a:pt x="198" y="225"/>
                </a:lnTo>
                <a:lnTo>
                  <a:pt x="198" y="438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85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7" name=""/>
          <p:cNvGraphicFramePr/>
          <p:nvPr/>
        </p:nvGraphicFramePr>
        <p:xfrm>
          <a:off x="1116000" y="1697040"/>
          <a:ext cx="1584360" cy="1587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ygon: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s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max-dim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20500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6360" y="2781360"/>
            <a:ext cx="93636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21760" y="37893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create the de9im of polygon/polygon inter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e9im’s of all segment/segment inters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"/>
          <p:cNvGraphicFramePr/>
          <p:nvPr/>
        </p:nvGraphicFramePr>
        <p:xfrm>
          <a:off x="249120" y="150840"/>
          <a:ext cx="1584360" cy="34704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9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overlap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1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2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v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touch/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7" name=""/>
          <p:cNvGraphicFramePr/>
          <p:nvPr/>
        </p:nvGraphicFramePr>
        <p:xfrm>
          <a:off x="2400480" y="150840"/>
          <a:ext cx="1584000" cy="36180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0, inters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segments inters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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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4/B3: 0-1--0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2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08" name=""/>
          <p:cNvSpPr/>
          <p:nvPr/>
        </p:nvSpPr>
        <p:spPr>
          <a:xfrm>
            <a:off x="244440" y="947880"/>
            <a:ext cx="468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3" y="48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3000" y="146160"/>
            <a:ext cx="6120" cy="796680"/>
          </a:xfrm>
          <a:custGeom>
            <a:avLst/>
            <a:gdLst/>
            <a:ahLst/>
            <a:rect l="l" t="t" r="r" b="b"/>
            <a:pathLst>
              <a:path w="4" h="502">
                <a:moveTo>
                  <a:pt x="4" y="50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3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039680" y="152280"/>
            <a:ext cx="766800" cy="1800"/>
          </a:xfrm>
          <a:custGeom>
            <a:avLst/>
            <a:gdLst/>
            <a:ahLst/>
            <a:rect l="l" t="t" r="r" b="b"/>
            <a:pathLst>
              <a:path w="483" h="1">
                <a:moveTo>
                  <a:pt x="0" y="0"/>
                </a:moveTo>
                <a:lnTo>
                  <a:pt x="48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820880" y="152280"/>
            <a:ext cx="9360" cy="785880"/>
          </a:xfrm>
          <a:custGeom>
            <a:avLst/>
            <a:gdLst/>
            <a:ahLst/>
            <a:rect l="l" t="t" r="r" b="b"/>
            <a:pathLst>
              <a:path w="6" h="495">
                <a:moveTo>
                  <a:pt x="6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30240" y="947880"/>
            <a:ext cx="5040" cy="771480"/>
          </a:xfrm>
          <a:custGeom>
            <a:avLst/>
            <a:gdLst/>
            <a:ahLst/>
            <a:rect l="l" t="t" r="r" b="b"/>
            <a:pathLst>
              <a:path w="3" h="486">
                <a:moveTo>
                  <a:pt x="0" y="0"/>
                </a:moveTo>
                <a:lnTo>
                  <a:pt x="3" y="486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039680" y="1733400"/>
            <a:ext cx="785880" cy="5040"/>
          </a:xfrm>
          <a:custGeom>
            <a:avLst/>
            <a:gdLst/>
            <a:ahLst/>
            <a:rect l="l" t="t" r="r" b="b"/>
            <a:pathLst>
              <a:path w="495" h="3">
                <a:moveTo>
                  <a:pt x="495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39760" y="1733400"/>
            <a:ext cx="799920" cy="1800"/>
          </a:xfrm>
          <a:custGeom>
            <a:avLst/>
            <a:gdLst/>
            <a:ahLst/>
            <a:rect l="l" t="t" r="r" b="b"/>
            <a:pathLst>
              <a:path w="504" h="1">
                <a:moveTo>
                  <a:pt x="50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56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88640" y="1384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18072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45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10857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638000" y="2602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63800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1919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12560" y="1528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394000" y="146160"/>
            <a:ext cx="15840" cy="81108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394000" y="15228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191040" y="157320"/>
            <a:ext cx="4680" cy="78552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419200" y="942840"/>
            <a:ext cx="771840" cy="504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070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341440" y="592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496960" y="120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04920" y="23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0320" y="736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647640" y="17240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635040" y="93672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1434960" y="949320"/>
            <a:ext cx="3240" cy="76824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47640" y="9493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959040" y="12700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1242720" y="1052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734760" y="1519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581040" y="1062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10411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787480" y="133344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774880" y="546120"/>
            <a:ext cx="80352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575160" y="558720"/>
            <a:ext cx="3240" cy="768600"/>
          </a:xfrm>
          <a:custGeom>
            <a:avLst/>
            <a:gdLst/>
            <a:ahLst/>
            <a:rect l="l" t="t" r="r" b="b"/>
            <a:pathLst>
              <a:path w="2" h="484">
                <a:moveTo>
                  <a:pt x="0" y="0"/>
                </a:moveTo>
                <a:lnTo>
                  <a:pt x="2" y="484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787480" y="558720"/>
            <a:ext cx="180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382920" y="6620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74960" y="11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181320" y="5238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81680" y="9810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23960" y="1362240"/>
            <a:ext cx="280800" cy="30456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4573440" y="14616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1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with hol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3" name=""/>
          <p:cNvSpPr/>
          <p:nvPr/>
        </p:nvSpPr>
        <p:spPr>
          <a:xfrm>
            <a:off x="4567320" y="141120"/>
            <a:ext cx="1404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56732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615312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58136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46803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450828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352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59925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530208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540864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539604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19596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540864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97852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49576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33556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80212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580248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4965840" y="533520"/>
            <a:ext cx="419040" cy="12600"/>
          </a:xfrm>
          <a:custGeom>
            <a:avLst/>
            <a:gdLst/>
            <a:ahLst/>
            <a:rect l="l" t="t" r="r" b="b"/>
            <a:pathLst>
              <a:path w="264" h="8">
                <a:moveTo>
                  <a:pt x="264" y="0"/>
                </a:moveTo>
                <a:lnTo>
                  <a:pt x="0" y="8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971960" y="571680"/>
            <a:ext cx="6480" cy="368280"/>
          </a:xfrm>
          <a:custGeom>
            <a:avLst/>
            <a:gdLst/>
            <a:ahLst/>
            <a:rect l="l" t="t" r="r" b="b"/>
            <a:pathLst>
              <a:path w="4" h="232">
                <a:moveTo>
                  <a:pt x="4" y="0"/>
                </a:moveTo>
                <a:lnTo>
                  <a:pt x="0" y="232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356080" y="53352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4965840" y="946080"/>
            <a:ext cx="393480" cy="1800"/>
          </a:xfrm>
          <a:custGeom>
            <a:avLst/>
            <a:gdLst/>
            <a:ahLst/>
            <a:rect l="l" t="t" r="r" b="b"/>
            <a:pathLst>
              <a:path w="248" h="1">
                <a:moveTo>
                  <a:pt x="0" y="0"/>
                </a:moveTo>
                <a:lnTo>
                  <a:pt x="24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7876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35320" y="91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18148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2849400" y="596880"/>
            <a:ext cx="281160" cy="304920"/>
          </a:xfrm>
          <a:custGeom>
            <a:avLst/>
            <a:gdLst/>
            <a:ahLst/>
            <a:rect l="l" t="t" r="r" b="b"/>
            <a:pathLst>
              <a:path w="177" h="192">
                <a:moveTo>
                  <a:pt x="177" y="192"/>
                </a:moveTo>
                <a:lnTo>
                  <a:pt x="0" y="192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072040" y="34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5743440" y="961920"/>
            <a:ext cx="31464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743440" y="590400"/>
            <a:ext cx="314640" cy="228600"/>
          </a:xfrm>
          <a:custGeom>
            <a:avLst/>
            <a:gdLst/>
            <a:ahLst/>
            <a:rect l="l" t="t" r="r" b="b"/>
            <a:pathLst>
              <a:path w="198" h="144">
                <a:moveTo>
                  <a:pt x="0" y="0"/>
                </a:moveTo>
                <a:lnTo>
                  <a:pt x="198" y="0"/>
                </a:lnTo>
                <a:lnTo>
                  <a:pt x="198" y="144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138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156360" y="1241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346720" y="47628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5346720" y="880920"/>
            <a:ext cx="88920" cy="10008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2720880" y="671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232080" y="184320"/>
            <a:ext cx="327240" cy="301320"/>
          </a:xfrm>
          <a:custGeom>
            <a:avLst/>
            <a:gdLst/>
            <a:ahLst/>
            <a:rect l="l" t="t" r="r" b="b"/>
            <a:pathLst>
              <a:path w="206" h="190">
                <a:moveTo>
                  <a:pt x="0" y="0"/>
                </a:moveTo>
                <a:lnTo>
                  <a:pt x="0" y="190"/>
                </a:lnTo>
                <a:lnTo>
                  <a:pt x="206" y="186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6769080" y="150840"/>
          <a:ext cx="1584360" cy="4713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2, touch ins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‘hole like’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12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1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2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3/B4 </a:t>
                      </a:r>
                      <a:r>
                        <a:rPr b="0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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6/B3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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:L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3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7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Courier New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:R 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3 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: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8/B4 </a:t>
                      </a:r>
                      <a:r>
                        <a:rPr b="1" lang="en-US" sz="1200" spc="-1" strike="noStrike">
                          <a:solidFill>
                            <a:srgbClr val="6699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4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9" name=""/>
          <p:cNvSpPr/>
          <p:nvPr/>
        </p:nvSpPr>
        <p:spPr>
          <a:xfrm>
            <a:off x="6777000" y="955800"/>
            <a:ext cx="4680" cy="772920"/>
          </a:xfrm>
          <a:custGeom>
            <a:avLst/>
            <a:gdLst/>
            <a:ahLst/>
            <a:rect l="l" t="t" r="r" b="b"/>
            <a:pathLst>
              <a:path w="3" h="487">
                <a:moveTo>
                  <a:pt x="0" y="487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6762600" y="146160"/>
            <a:ext cx="1597320" cy="14040"/>
          </a:xfrm>
          <a:custGeom>
            <a:avLst/>
            <a:gdLst/>
            <a:ahLst/>
            <a:rect l="l" t="t" r="r" b="b"/>
            <a:pathLst>
              <a:path w="1006" h="9">
                <a:moveTo>
                  <a:pt x="0" y="9"/>
                </a:moveTo>
                <a:lnTo>
                  <a:pt x="100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8348760" y="16200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6777000" y="1738440"/>
            <a:ext cx="1571760" cy="936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875640" y="249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703920" y="2286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749916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8188200" y="646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7497720" y="152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7604280" y="1316160"/>
            <a:ext cx="736560" cy="4680"/>
          </a:xfrm>
          <a:custGeom>
            <a:avLst/>
            <a:gdLst/>
            <a:ahLst/>
            <a:rect l="l" t="t" r="r" b="b"/>
            <a:pathLst>
              <a:path w="464" h="3">
                <a:moveTo>
                  <a:pt x="464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591320" y="528480"/>
            <a:ext cx="803520" cy="1296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8385120" y="541440"/>
            <a:ext cx="6480" cy="769680"/>
          </a:xfrm>
          <a:custGeom>
            <a:avLst/>
            <a:gdLst/>
            <a:ahLst/>
            <a:rect l="l" t="t" r="r" b="b"/>
            <a:pathLst>
              <a:path w="4" h="485">
                <a:moveTo>
                  <a:pt x="4" y="0"/>
                </a:moveTo>
                <a:lnTo>
                  <a:pt x="0" y="485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601040" y="536400"/>
            <a:ext cx="1440" cy="777960"/>
          </a:xfrm>
          <a:custGeom>
            <a:avLst/>
            <a:gdLst/>
            <a:ahLst/>
            <a:rect l="l" t="t" r="r" b="b"/>
            <a:pathLst>
              <a:path w="1" h="490">
                <a:moveTo>
                  <a:pt x="0" y="49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8173800" y="9446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7691400" y="10857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7997760" y="506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7998120" y="9381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762600" y="538200"/>
            <a:ext cx="817560" cy="7920"/>
          </a:xfrm>
          <a:custGeom>
            <a:avLst/>
            <a:gdLst/>
            <a:ahLst/>
            <a:rect l="l" t="t" r="r" b="b"/>
            <a:pathLst>
              <a:path w="515" h="5">
                <a:moveTo>
                  <a:pt x="515" y="0"/>
                </a:moveTo>
                <a:lnTo>
                  <a:pt x="0" y="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7545240" y="538200"/>
            <a:ext cx="12960" cy="406440"/>
          </a:xfrm>
          <a:custGeom>
            <a:avLst/>
            <a:gdLst/>
            <a:ahLst/>
            <a:rect l="l" t="t" r="r" b="b"/>
            <a:pathLst>
              <a:path w="8" h="256">
                <a:moveTo>
                  <a:pt x="0" y="256"/>
                </a:moveTo>
                <a:lnTo>
                  <a:pt x="8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794640" y="950760"/>
            <a:ext cx="760320" cy="1800"/>
          </a:xfrm>
          <a:custGeom>
            <a:avLst/>
            <a:gdLst/>
            <a:ahLst/>
            <a:rect l="l" t="t" r="r" b="b"/>
            <a:pathLst>
              <a:path w="479" h="1">
                <a:moveTo>
                  <a:pt x="0" y="1"/>
                </a:moveTo>
                <a:lnTo>
                  <a:pt x="47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721200" y="1150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7230960" y="91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7370640" y="6444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7267320" y="351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7939080" y="966960"/>
            <a:ext cx="314280" cy="290520"/>
          </a:xfrm>
          <a:custGeom>
            <a:avLst/>
            <a:gdLst/>
            <a:ahLst/>
            <a:rect l="l" t="t" r="r" b="b"/>
            <a:pathLst>
              <a:path w="198" h="183">
                <a:moveTo>
                  <a:pt x="192" y="0"/>
                </a:moveTo>
                <a:lnTo>
                  <a:pt x="198" y="183"/>
                </a:lnTo>
                <a:lnTo>
                  <a:pt x="0" y="177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7667640" y="571680"/>
            <a:ext cx="266760" cy="33624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212"/>
                </a:moveTo>
                <a:lnTo>
                  <a:pt x="0" y="0"/>
                </a:lnTo>
                <a:lnTo>
                  <a:pt x="168" y="2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6762600" y="144360"/>
            <a:ext cx="5040" cy="405000"/>
          </a:xfrm>
          <a:custGeom>
            <a:avLst/>
            <a:gdLst/>
            <a:ahLst/>
            <a:rect l="l" t="t" r="r" b="b"/>
            <a:pathLst>
              <a:path w="3" h="255">
                <a:moveTo>
                  <a:pt x="0" y="255"/>
                </a:moveTo>
                <a:lnTo>
                  <a:pt x="3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7534080" y="952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"/>
          <p:cNvGraphicFramePr/>
          <p:nvPr/>
        </p:nvGraphicFramePr>
        <p:xfrm>
          <a:off x="249120" y="150840"/>
          <a:ext cx="1584360" cy="26971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7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3, disjoi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8" name=""/>
          <p:cNvSpPr/>
          <p:nvPr/>
        </p:nvSpPr>
        <p:spPr>
          <a:xfrm>
            <a:off x="235080" y="141120"/>
            <a:ext cx="15840" cy="811440"/>
          </a:xfrm>
          <a:custGeom>
            <a:avLst/>
            <a:gdLst/>
            <a:ahLst/>
            <a:rect l="l" t="t" r="r" b="b"/>
            <a:pathLst>
              <a:path w="10" h="511">
                <a:moveTo>
                  <a:pt x="10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235080" y="147600"/>
            <a:ext cx="79200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031760" y="152280"/>
            <a:ext cx="504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6028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4776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18252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3804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46000" y="2318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0300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1419120" y="1733400"/>
            <a:ext cx="419040" cy="1800"/>
          </a:xfrm>
          <a:custGeom>
            <a:avLst/>
            <a:gdLst/>
            <a:ahLst/>
            <a:rect l="l" t="t" r="r" b="b"/>
            <a:pathLst>
              <a:path w="264" h="1">
                <a:moveTo>
                  <a:pt x="264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1457280" y="1324080"/>
            <a:ext cx="352440" cy="9360"/>
          </a:xfrm>
          <a:custGeom>
            <a:avLst/>
            <a:gdLst/>
            <a:ahLst/>
            <a:rect l="l" t="t" r="r" b="b"/>
            <a:pathLst>
              <a:path w="222" h="6">
                <a:moveTo>
                  <a:pt x="0" y="0"/>
                </a:moveTo>
                <a:lnTo>
                  <a:pt x="222" y="6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809720" y="1324080"/>
            <a:ext cx="19080" cy="399960"/>
          </a:xfrm>
          <a:custGeom>
            <a:avLst/>
            <a:gdLst/>
            <a:ahLst/>
            <a:rect l="l" t="t" r="r" b="b"/>
            <a:pathLst>
              <a:path w="12" h="252">
                <a:moveTo>
                  <a:pt x="0" y="0"/>
                </a:moveTo>
                <a:lnTo>
                  <a:pt x="12" y="25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438200" y="1324080"/>
            <a:ext cx="19080" cy="390600"/>
          </a:xfrm>
          <a:custGeom>
            <a:avLst/>
            <a:gdLst/>
            <a:ahLst/>
            <a:rect l="l" t="t" r="r" b="b"/>
            <a:pathLst>
              <a:path w="12" h="246">
                <a:moveTo>
                  <a:pt x="0" y="246"/>
                </a:moveTo>
                <a:lnTo>
                  <a:pt x="12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508400" y="138096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2" name=""/>
          <p:cNvGraphicFramePr/>
          <p:nvPr/>
        </p:nvGraphicFramePr>
        <p:xfrm>
          <a:off x="2406600" y="150840"/>
          <a:ext cx="1584360" cy="3190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4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1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tou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gments eq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3" name=""/>
          <p:cNvSpPr/>
          <p:nvPr/>
        </p:nvSpPr>
        <p:spPr>
          <a:xfrm>
            <a:off x="2403360" y="141120"/>
            <a:ext cx="5040" cy="81144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392200" y="14760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189240" y="15228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417760" y="938160"/>
            <a:ext cx="771480" cy="4680"/>
          </a:xfrm>
          <a:custGeom>
            <a:avLst/>
            <a:gdLst/>
            <a:ahLst/>
            <a:rect l="l" t="t" r="r" b="b"/>
            <a:pathLst>
              <a:path w="486" h="3">
                <a:moveTo>
                  <a:pt x="486" y="0"/>
                </a:moveTo>
                <a:lnTo>
                  <a:pt x="0" y="3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250524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355840" y="587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2495520" y="135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997000" y="235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760480" y="7272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436840" y="96048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4240" y="171360"/>
            <a:ext cx="798480" cy="14400"/>
          </a:xfrm>
          <a:custGeom>
            <a:avLst/>
            <a:gdLst/>
            <a:ahLst/>
            <a:rect l="l" t="t" r="r" b="b"/>
            <a:pathLst>
              <a:path w="503" h="9">
                <a:moveTo>
                  <a:pt x="0" y="9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3224160" y="185760"/>
            <a:ext cx="7920" cy="76500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2427120" y="18108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3006720" y="588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2523960" y="730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2363760" y="289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830320" y="138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773440" y="4762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1" name=""/>
          <p:cNvGraphicFramePr/>
          <p:nvPr/>
        </p:nvGraphicFramePr>
        <p:xfrm>
          <a:off x="6784920" y="150840"/>
          <a:ext cx="1584360" cy="2624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6, wit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52" name=""/>
          <p:cNvSpPr/>
          <p:nvPr/>
        </p:nvSpPr>
        <p:spPr>
          <a:xfrm>
            <a:off x="6765840" y="141120"/>
            <a:ext cx="14400" cy="1582920"/>
          </a:xfrm>
          <a:custGeom>
            <a:avLst/>
            <a:gdLst/>
            <a:ahLst/>
            <a:rect l="l" t="t" r="r" b="b"/>
            <a:pathLst>
              <a:path w="9" h="997">
                <a:moveTo>
                  <a:pt x="9" y="997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765840" y="138240"/>
            <a:ext cx="1581120" cy="17280"/>
          </a:xfrm>
          <a:custGeom>
            <a:avLst/>
            <a:gdLst/>
            <a:ahLst/>
            <a:rect l="l" t="t" r="r" b="b"/>
            <a:pathLst>
              <a:path w="996" h="11">
                <a:moveTo>
                  <a:pt x="0" y="11"/>
                </a:moveTo>
                <a:lnTo>
                  <a:pt x="996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8352000" y="157320"/>
            <a:ext cx="4680" cy="1571400"/>
          </a:xfrm>
          <a:custGeom>
            <a:avLst/>
            <a:gdLst/>
            <a:ahLst/>
            <a:rect l="l" t="t" r="r" b="b"/>
            <a:pathLst>
              <a:path w="3" h="990">
                <a:moveTo>
                  <a:pt x="3" y="0"/>
                </a:moveTo>
                <a:lnTo>
                  <a:pt x="0" y="99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780240" y="1733400"/>
            <a:ext cx="1571760" cy="9720"/>
          </a:xfrm>
          <a:custGeom>
            <a:avLst/>
            <a:gdLst/>
            <a:ahLst/>
            <a:rect l="l" t="t" r="r" b="b"/>
            <a:pathLst>
              <a:path w="990" h="6">
                <a:moveTo>
                  <a:pt x="99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878880" y="244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70716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7502400" y="111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8135640" y="6415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7500960" y="1515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7188120" y="131112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7175520" y="523800"/>
            <a:ext cx="803160" cy="12600"/>
          </a:xfrm>
          <a:custGeom>
            <a:avLst/>
            <a:gdLst/>
            <a:ahLst/>
            <a:rect l="l" t="t" r="r" b="b"/>
            <a:pathLst>
              <a:path w="506" h="8">
                <a:moveTo>
                  <a:pt x="0" y="8"/>
                </a:moveTo>
                <a:lnTo>
                  <a:pt x="506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7975440" y="53640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7188120" y="539640"/>
            <a:ext cx="14400" cy="774720"/>
          </a:xfrm>
          <a:custGeom>
            <a:avLst/>
            <a:gdLst/>
            <a:ahLst/>
            <a:rect l="l" t="t" r="r" b="b"/>
            <a:pathLst>
              <a:path w="9" h="488">
                <a:moveTo>
                  <a:pt x="0" y="488"/>
                </a:moveTo>
                <a:lnTo>
                  <a:pt x="9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7758000" y="9399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7275240" y="10810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7115040" y="6397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581600" y="501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7581960" y="93348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0" name=""/>
          <p:cNvGraphicFramePr/>
          <p:nvPr/>
        </p:nvGraphicFramePr>
        <p:xfrm>
          <a:off x="4572000" y="131760"/>
          <a:ext cx="1584360" cy="315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 15, eq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78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#segments diff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1" name=""/>
          <p:cNvSpPr/>
          <p:nvPr/>
        </p:nvSpPr>
        <p:spPr>
          <a:xfrm>
            <a:off x="4568760" y="122400"/>
            <a:ext cx="4680" cy="811080"/>
          </a:xfrm>
          <a:custGeom>
            <a:avLst/>
            <a:gdLst/>
            <a:ahLst/>
            <a:rect l="l" t="t" r="r" b="b"/>
            <a:pathLst>
              <a:path w="3" h="511">
                <a:moveTo>
                  <a:pt x="3" y="51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4557600" y="128520"/>
            <a:ext cx="792360" cy="7920"/>
          </a:xfrm>
          <a:custGeom>
            <a:avLst/>
            <a:gdLst/>
            <a:ahLst/>
            <a:rect l="l" t="t" r="r" b="b"/>
            <a:pathLst>
              <a:path w="499" h="5">
                <a:moveTo>
                  <a:pt x="0" y="5"/>
                </a:moveTo>
                <a:lnTo>
                  <a:pt x="499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5354640" y="133200"/>
            <a:ext cx="4680" cy="785880"/>
          </a:xfrm>
          <a:custGeom>
            <a:avLst/>
            <a:gdLst/>
            <a:ahLst/>
            <a:rect l="l" t="t" r="r" b="b"/>
            <a:pathLst>
              <a:path w="3" h="495">
                <a:moveTo>
                  <a:pt x="3" y="0"/>
                </a:moveTo>
                <a:lnTo>
                  <a:pt x="0" y="495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4968720" y="914400"/>
            <a:ext cx="385920" cy="468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4670640" y="2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4520880" y="5684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4660920" y="1159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5162400" y="216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5078160" y="70812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589640" y="155520"/>
            <a:ext cx="798480" cy="11160"/>
          </a:xfrm>
          <a:custGeom>
            <a:avLst/>
            <a:gdLst/>
            <a:ahLst/>
            <a:rect l="l" t="t" r="r" b="b"/>
            <a:pathLst>
              <a:path w="503" h="7">
                <a:moveTo>
                  <a:pt x="0" y="7"/>
                </a:moveTo>
                <a:lnTo>
                  <a:pt x="503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5389560" y="166680"/>
            <a:ext cx="7920" cy="765360"/>
          </a:xfrm>
          <a:custGeom>
            <a:avLst/>
            <a:gdLst/>
            <a:ahLst/>
            <a:rect l="l" t="t" r="r" b="b"/>
            <a:pathLst>
              <a:path w="5" h="482">
                <a:moveTo>
                  <a:pt x="0" y="0"/>
                </a:moveTo>
                <a:lnTo>
                  <a:pt x="5" y="482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592520" y="162000"/>
            <a:ext cx="9720" cy="782640"/>
          </a:xfrm>
          <a:custGeom>
            <a:avLst/>
            <a:gdLst/>
            <a:ahLst/>
            <a:rect l="l" t="t" r="r" b="b"/>
            <a:pathLst>
              <a:path w="6" h="493">
                <a:moveTo>
                  <a:pt x="6" y="49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5171760" y="569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57680" y="7113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529160" y="27000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4995720" y="1191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4938840" y="4572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583160" y="907920"/>
            <a:ext cx="385560" cy="5040"/>
          </a:xfrm>
          <a:custGeom>
            <a:avLst/>
            <a:gdLst/>
            <a:ahLst/>
            <a:rect l="l" t="t" r="r" b="b"/>
            <a:pathLst>
              <a:path w="243" h="3">
                <a:moveTo>
                  <a:pt x="243" y="3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99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602240" y="941400"/>
            <a:ext cx="793800" cy="3240"/>
          </a:xfrm>
          <a:custGeom>
            <a:avLst/>
            <a:gdLst/>
            <a:ahLst/>
            <a:rect l="l" t="t" r="r" b="b"/>
            <a:pathLst>
              <a:path w="500" h="2">
                <a:moveTo>
                  <a:pt x="500" y="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333399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786200" y="71424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1" name=""/>
          <p:cNvGraphicFramePr/>
          <p:nvPr/>
        </p:nvGraphicFramePr>
        <p:xfrm>
          <a:off x="468360" y="333360"/>
          <a:ext cx="8206920" cy="6119640"/>
        </p:xfrm>
        <a:graphic>
          <a:graphicData uri="http://schemas.openxmlformats.org/drawingml/2006/table">
            <a:tbl>
              <a:tblPr/>
              <a:tblGrid>
                <a:gridCol w="2046600"/>
                <a:gridCol w="2064600"/>
                <a:gridCol w="2049120"/>
                <a:gridCol w="2046600"/>
              </a:tblGrid>
              <a:tr h="1530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or polygon/polygon, based 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9im of segment/seg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n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fault 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== 0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ound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I/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xteri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 (eq) /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way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589800" y="54936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-0-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2268360" y="5526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64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-0--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6583320" y="343548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 (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2255760" y="34196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1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97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836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76720" y="836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0200" y="870120"/>
            <a:ext cx="1008000" cy="1081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422100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37162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03640" y="4292640"/>
            <a:ext cx="936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262240" y="34290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1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6583320" y="343224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0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257560" y="538200"/>
          <a:ext cx="158436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64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1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585120" y="546120"/>
          <a:ext cx="1584000" cy="2379600"/>
        </p:xfrm>
        <a:graphic>
          <a:graphicData uri="http://schemas.openxmlformats.org/drawingml/2006/table">
            <a:tbl>
              <a:tblPr/>
              <a:tblGrid>
                <a:gridCol w="395280"/>
                <a:gridCol w="39816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hin (t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20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12-01-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12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11280" y="364500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414972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37893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458136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907920"/>
            <a:ext cx="50472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19640" y="620640"/>
            <a:ext cx="1008000" cy="1079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8957000">
            <a:off x="5627520" y="90756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1425600" cy="1363680"/>
            <a:chOff x="0" y="0"/>
            <a:chExt cx="1425600" cy="1363680"/>
          </a:xfrm>
        </p:grpSpPr>
        <p:sp>
          <p:nvSpPr>
            <p:cNvPr id="123" name=""/>
            <p:cNvSpPr/>
            <p:nvPr/>
          </p:nvSpPr>
          <p:spPr>
            <a:xfrm rot="16200000">
              <a:off x="-428400" y="56664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9900"/>
                  </a:solidFill>
                  <a:latin typeface="Clarendon Condensed"/>
                </a:rPr>
                <a:t>A: 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01600" y="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Clarendon Condensed"/>
                </a:rPr>
                <a:t>B: bl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" name=""/>
          <p:cNvGraphicFramePr/>
          <p:nvPr/>
        </p:nvGraphicFramePr>
        <p:xfrm>
          <a:off x="2254320" y="536400"/>
          <a:ext cx="1584360" cy="238104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j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664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-2--12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674640" y="81756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67000" y="16812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973840" y="11145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274840" y="111600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3352680" y="1727280"/>
            <a:ext cx="3487680" cy="393480"/>
          </a:xfrm>
          <a:custGeom>
            <a:avLst/>
            <a:gdLst/>
            <a:ahLst/>
            <a:rect l="l" t="t" r="r" b="b"/>
            <a:pathLst>
              <a:path w="2197" h="248">
                <a:moveTo>
                  <a:pt x="0" y="0"/>
                </a:moveTo>
                <a:lnTo>
                  <a:pt x="2197" y="248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1720" y="1630440"/>
            <a:ext cx="520560" cy="12600"/>
          </a:xfrm>
          <a:custGeom>
            <a:avLst/>
            <a:gdLst/>
            <a:ahLst/>
            <a:rect l="l" t="t" r="r" b="b"/>
            <a:pathLst>
              <a:path w="328" h="8">
                <a:moveTo>
                  <a:pt x="0" y="8"/>
                </a:moveTo>
                <a:lnTo>
                  <a:pt x="328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995040" y="124308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52440" y="15638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415360" y="102708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91400">
            <a:off x="7827480" y="1098720"/>
            <a:ext cx="50508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080" y="12081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8640" y="2386080"/>
            <a:ext cx="673200" cy="609480"/>
          </a:xfrm>
          <a:custGeom>
            <a:avLst/>
            <a:gdLst/>
            <a:ahLst/>
            <a:rect l="l" t="t" r="r" b="b"/>
            <a:pathLst>
              <a:path w="424" h="384">
                <a:moveTo>
                  <a:pt x="0" y="384"/>
                </a:moveTo>
                <a:lnTo>
                  <a:pt x="424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6160" y="2741760"/>
            <a:ext cx="800280" cy="190440"/>
          </a:xfrm>
          <a:custGeom>
            <a:avLst/>
            <a:gdLst/>
            <a:ahLst/>
            <a:rect l="l" t="t" r="r" b="b"/>
            <a:pathLst>
              <a:path w="504" h="120">
                <a:moveTo>
                  <a:pt x="504" y="120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3200" y="26575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864200">
            <a:off x="8405280" y="2035080"/>
            <a:ext cx="54000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92920" y="2131920"/>
            <a:ext cx="505080" cy="5050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7520" y="234792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59200" y="2184480"/>
            <a:ext cx="3875040" cy="36360"/>
          </a:xfrm>
          <a:custGeom>
            <a:avLst/>
            <a:gdLst/>
            <a:ahLst/>
            <a:rect l="l" t="t" r="r" b="b"/>
            <a:pathLst>
              <a:path w="2441" h="23">
                <a:moveTo>
                  <a:pt x="0" y="0"/>
                </a:moveTo>
                <a:lnTo>
                  <a:pt x="2441" y="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2160" y="2209680"/>
            <a:ext cx="1751040" cy="493920"/>
          </a:xfrm>
          <a:custGeom>
            <a:avLst/>
            <a:gdLst/>
            <a:ahLst/>
            <a:rect l="l" t="t" r="r" b="b"/>
            <a:pathLst>
              <a:path w="1103" h="311">
                <a:moveTo>
                  <a:pt x="0" y="311"/>
                </a:moveTo>
                <a:lnTo>
                  <a:pt x="1103" y="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22360" y="1689120"/>
            <a:ext cx="1727280" cy="88920"/>
          </a:xfrm>
          <a:custGeom>
            <a:avLst/>
            <a:gdLst/>
            <a:ahLst/>
            <a:rect l="l" t="t" r="r" b="b"/>
            <a:pathLst>
              <a:path w="1088" h="56">
                <a:moveTo>
                  <a:pt x="0" y="0"/>
                </a:moveTo>
                <a:lnTo>
                  <a:pt x="1088" y="56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091360" y="290052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296200">
            <a:off x="8330760" y="295416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412120" y="282744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973840" y="399096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274840" y="3992400"/>
          <a:ext cx="1584360" cy="198468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992320" y="4716360"/>
            <a:ext cx="3848040" cy="281160"/>
          </a:xfrm>
          <a:custGeom>
            <a:avLst/>
            <a:gdLst/>
            <a:ahLst/>
            <a:rect l="l" t="t" r="r" b="b"/>
            <a:pathLst>
              <a:path w="2424" h="177">
                <a:moveTo>
                  <a:pt x="0" y="0"/>
                </a:moveTo>
                <a:lnTo>
                  <a:pt x="2424" y="177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1960" y="4924440"/>
            <a:ext cx="685800" cy="101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49480" y="4606920"/>
            <a:ext cx="57600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38200" y="48672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09520" y="534672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13720" y="3989520"/>
            <a:ext cx="71892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434440" y="44942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01120" y="5286240"/>
            <a:ext cx="71892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18560" y="5430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27960" y="4462560"/>
            <a:ext cx="1800" cy="304560"/>
          </a:xfrm>
          <a:custGeom>
            <a:avLst/>
            <a:gdLst/>
            <a:ahLst/>
            <a:rect l="l" t="t" r="r" b="b"/>
            <a:pathLst>
              <a:path w="1" h="192">
                <a:moveTo>
                  <a:pt x="0" y="192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5360" y="5415120"/>
            <a:ext cx="6480" cy="495000"/>
          </a:xfrm>
          <a:custGeom>
            <a:avLst/>
            <a:gdLst/>
            <a:ahLst/>
            <a:rect l="l" t="t" r="r" b="b"/>
            <a:pathLst>
              <a:path w="4" h="312">
                <a:moveTo>
                  <a:pt x="0" y="312"/>
                </a:moveTo>
                <a:lnTo>
                  <a:pt x="4" y="0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56840" y="6305400"/>
            <a:ext cx="332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magenta): might change late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: (red): end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5940360" y="10526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erla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2190600" y="109224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s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5281560" y="1701720"/>
            <a:ext cx="1970280" cy="127080"/>
          </a:xfrm>
          <a:custGeom>
            <a:avLst/>
            <a:gdLst/>
            <a:ahLst/>
            <a:rect l="l" t="t" r="r" b="b"/>
            <a:pathLst>
              <a:path w="1241" h="80">
                <a:moveTo>
                  <a:pt x="0" y="80"/>
                </a:moveTo>
                <a:lnTo>
                  <a:pt x="124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1523880"/>
            <a:ext cx="719280" cy="792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01080" y="206064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308240"/>
            <a:ext cx="177840" cy="1460520"/>
          </a:xfrm>
          <a:custGeom>
            <a:avLst/>
            <a:gdLst/>
            <a:ahLst/>
            <a:rect l="l" t="t" r="r" b="b"/>
            <a:pathLst>
              <a:path w="112" h="920">
                <a:moveTo>
                  <a:pt x="0" y="920"/>
                </a:moveTo>
                <a:lnTo>
                  <a:pt x="112" y="0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4600" y="1866960"/>
            <a:ext cx="1282680" cy="380880"/>
          </a:xfrm>
          <a:custGeom>
            <a:avLst/>
            <a:gdLst/>
            <a:ahLst/>
            <a:rect l="l" t="t" r="r" b="b"/>
            <a:pathLst>
              <a:path w="808" h="240">
                <a:moveTo>
                  <a:pt x="808" y="240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68480" y="20019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028000" y="22305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908680" y="393372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09680" y="3973680"/>
          <a:ext cx="1584360" cy="1984320"/>
        </p:xfrm>
        <a:graphic>
          <a:graphicData uri="http://schemas.openxmlformats.org/drawingml/2006/table">
            <a:tbl>
              <a:tblPr/>
              <a:tblGrid>
                <a:gridCol w="395280"/>
                <a:gridCol w="398520"/>
                <a:gridCol w="395280"/>
                <a:gridCol w="395280"/>
              </a:tblGrid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9900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301920" y="4940280"/>
            <a:ext cx="3473640" cy="112680"/>
          </a:xfrm>
          <a:custGeom>
            <a:avLst/>
            <a:gdLst/>
            <a:ahLst/>
            <a:rect l="l" t="t" r="r" b="b"/>
            <a:pathLst>
              <a:path w="2188" h="71">
                <a:moveTo>
                  <a:pt x="0" y="71"/>
                </a:moveTo>
                <a:lnTo>
                  <a:pt x="218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977760" y="5033880"/>
            <a:ext cx="168480" cy="652680"/>
          </a:xfrm>
          <a:custGeom>
            <a:avLst/>
            <a:gdLst/>
            <a:ahLst/>
            <a:rect l="l" t="t" r="r" b="b"/>
            <a:pathLst>
              <a:path w="432" h="638">
                <a:moveTo>
                  <a:pt x="432" y="0"/>
                </a:moveTo>
                <a:lnTo>
                  <a:pt x="0" y="638"/>
                </a:lnTo>
              </a:path>
            </a:pathLst>
          </a:custGeom>
          <a:noFill/>
          <a:ln w="7632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29880" y="4246560"/>
            <a:ext cx="576360" cy="863640"/>
          </a:xfrm>
          <a:prstGeom prst="line">
            <a:avLst/>
          </a:prstGeom>
          <a:ln w="507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4976640"/>
            <a:ext cx="144720" cy="14472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32720" y="3645000"/>
            <a:ext cx="719280" cy="79200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443700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0" y="4359240"/>
            <a:ext cx="14472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81560" y="1838160"/>
            <a:ext cx="1195560" cy="590760"/>
          </a:xfrm>
          <a:custGeom>
            <a:avLst/>
            <a:gdLst/>
            <a:ahLst/>
            <a:rect l="l" t="t" r="r" b="b"/>
            <a:pathLst>
              <a:path w="753" h="372">
                <a:moveTo>
                  <a:pt x="0" y="0"/>
                </a:moveTo>
                <a:lnTo>
                  <a:pt x="753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1280" y="1843200"/>
            <a:ext cx="1195200" cy="223560"/>
          </a:xfrm>
          <a:custGeom>
            <a:avLst/>
            <a:gdLst/>
            <a:ahLst/>
            <a:rect l="l" t="t" r="r" b="b"/>
            <a:pathLst>
              <a:path w="753" h="141">
                <a:moveTo>
                  <a:pt x="0" y="0"/>
                </a:moveTo>
                <a:lnTo>
                  <a:pt x="753" y="141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81560" y="1838160"/>
            <a:ext cx="1595520" cy="195480"/>
          </a:xfrm>
          <a:custGeom>
            <a:avLst/>
            <a:gdLst/>
            <a:ahLst/>
            <a:rect l="l" t="t" r="r" b="b"/>
            <a:pathLst>
              <a:path w="1005" h="123">
                <a:moveTo>
                  <a:pt x="0" y="0"/>
                </a:moveTo>
                <a:lnTo>
                  <a:pt x="1005" y="12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1280" y="1638360"/>
            <a:ext cx="1566720" cy="199800"/>
          </a:xfrm>
          <a:custGeom>
            <a:avLst/>
            <a:gdLst/>
            <a:ahLst/>
            <a:rect l="l" t="t" r="r" b="b"/>
            <a:pathLst>
              <a:path w="987" h="126">
                <a:moveTo>
                  <a:pt x="0" y="126"/>
                </a:moveTo>
                <a:lnTo>
                  <a:pt x="987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1280" y="1647720"/>
            <a:ext cx="1152360" cy="190440"/>
          </a:xfrm>
          <a:custGeom>
            <a:avLst/>
            <a:gdLst/>
            <a:ahLst/>
            <a:rect l="l" t="t" r="r" b="b"/>
            <a:pathLst>
              <a:path w="726" h="120">
                <a:moveTo>
                  <a:pt x="0" y="120"/>
                </a:moveTo>
                <a:lnTo>
                  <a:pt x="72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95960" y="1838160"/>
            <a:ext cx="1581120" cy="590760"/>
          </a:xfrm>
          <a:custGeom>
            <a:avLst/>
            <a:gdLst/>
            <a:ahLst/>
            <a:rect l="l" t="t" r="r" b="b"/>
            <a:pathLst>
              <a:path w="996" h="372">
                <a:moveTo>
                  <a:pt x="0" y="0"/>
                </a:moveTo>
                <a:lnTo>
                  <a:pt x="996" y="372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5960" y="1838160"/>
            <a:ext cx="1981080" cy="190800"/>
          </a:xfrm>
          <a:custGeom>
            <a:avLst/>
            <a:gdLst/>
            <a:ahLst/>
            <a:rect l="l" t="t" r="r" b="b"/>
            <a:pathLst>
              <a:path w="1248" h="120">
                <a:moveTo>
                  <a:pt x="0" y="0"/>
                </a:moveTo>
                <a:lnTo>
                  <a:pt x="1248" y="12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862360" y="1733400"/>
            <a:ext cx="2433600" cy="95400"/>
          </a:xfrm>
          <a:custGeom>
            <a:avLst/>
            <a:gdLst/>
            <a:ahLst/>
            <a:rect l="l" t="t" r="r" b="b"/>
            <a:pathLst>
              <a:path w="1533" h="60">
                <a:moveTo>
                  <a:pt x="0" y="0"/>
                </a:moveTo>
                <a:lnTo>
                  <a:pt x="1533" y="6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026560" y="2006640"/>
            <a:ext cx="1440" cy="609480"/>
          </a:xfrm>
          <a:custGeom>
            <a:avLst/>
            <a:gdLst/>
            <a:ahLst/>
            <a:rect l="l" t="t" r="r" b="b"/>
            <a:pathLst>
              <a:path w="1" h="384">
                <a:moveTo>
                  <a:pt x="0" y="3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721640" y="2247840"/>
            <a:ext cx="596880" cy="1800"/>
          </a:xfrm>
          <a:custGeom>
            <a:avLst/>
            <a:gdLst/>
            <a:ahLst/>
            <a:rect l="l" t="t" r="r" b="b"/>
            <a:pathLst>
              <a:path w="376" h="1">
                <a:moveTo>
                  <a:pt x="376" y="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9933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80360" y="5224320"/>
            <a:ext cx="539640" cy="57636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91400">
            <a:off x="7692840" y="5295960"/>
            <a:ext cx="504720" cy="50472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9080" y="540540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12000" y="6094440"/>
            <a:ext cx="827280" cy="647640"/>
          </a:xfrm>
          <a:prstGeom prst="rect">
            <a:avLst/>
          </a:prstGeom>
          <a:solidFill>
            <a:srgbClr val="66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2296200">
            <a:off x="8051400" y="6148440"/>
            <a:ext cx="358920" cy="382680"/>
          </a:xfrm>
          <a:prstGeom prst="rect">
            <a:avLst/>
          </a:prstGeom>
          <a:solidFill>
            <a:srgbClr val="333399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132760" y="6021360"/>
            <a:ext cx="144360" cy="144360"/>
          </a:xfrm>
          <a:prstGeom prst="ellipse">
            <a:avLst/>
          </a:prstGeom>
          <a:solidFill>
            <a:srgbClr val="ff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finding the de9im of polygon/polyg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egment/segment) helps in some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9im (s/s) helps for real intersection of two segments (interior/interi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boundary touch it always gives the same result (--1-001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iler-Atherton: Using [clockwise] order, as one follows along the chain of vertices of a polygon, the outside is always to the left while the interior of the polygon is always to the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-324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de9im segm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ly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42:27Z</dcterms:created>
  <dc:creator>Barend Gehrels</dc:creator>
  <dc:description/>
  <dc:language>en-US</dc:language>
  <cp:lastModifiedBy>Barend Gehrels</cp:lastModifiedBy>
  <dcterms:modified xsi:type="dcterms:W3CDTF">2009-03-10T19:55:47Z</dcterms:modified>
  <cp:revision>75</cp:revision>
  <dc:subject/>
  <dc:title>Slide 1</dc:title>
</cp:coreProperties>
</file>