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2469-7495-41D4-940C-E907011D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F96-0688-4FF7-A77D-8D7446EE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1365-D19D-433D-A808-193DC217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FE70-3E03-4197-8A34-4050B774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A749-A8F6-46F1-9F03-6F30CDC9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1BEA-A0FD-46EB-A749-8BB180CF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D25-9106-4D0A-8345-42654B9B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CAD3-605E-4B5F-BC38-9F05B80E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0DC-459C-408A-BF0D-3AB26DDD6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E3A-AF89-4348-93BB-A64C018C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E33-9226-4DF3-B1CC-2B302146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3EE8-C59C-4E5B-B990-610F1D8B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4F52-5B2D-4F04-BCE0-157961B4D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0920" y="723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47680" y="719280"/>
            <a:ext cx="1587600" cy="1596960"/>
          </a:xfrm>
          <a:custGeom>
            <a:avLst/>
            <a:gdLst/>
            <a:ahLst/>
            <a:rect l="l" t="t" r="r" b="b"/>
            <a:pathLst>
              <a:path w="1000" h="1006">
                <a:moveTo>
                  <a:pt x="0" y="994"/>
                </a:moveTo>
                <a:lnTo>
                  <a:pt x="0" y="505"/>
                </a:lnTo>
                <a:lnTo>
                  <a:pt x="251" y="504"/>
                </a:lnTo>
                <a:lnTo>
                  <a:pt x="249" y="754"/>
                </a:lnTo>
                <a:lnTo>
                  <a:pt x="113" y="753"/>
                </a:lnTo>
                <a:lnTo>
                  <a:pt x="113" y="3"/>
                </a:lnTo>
                <a:lnTo>
                  <a:pt x="1000" y="0"/>
                </a:lnTo>
                <a:lnTo>
                  <a:pt x="999" y="1005"/>
                </a:lnTo>
                <a:lnTo>
                  <a:pt x="3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120" y="15033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680" y="1770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0680" y="1438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112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0000" y="1927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9000" y="11793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55960" y="743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482920" y="69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467080" y="689040"/>
            <a:ext cx="1600200" cy="1596960"/>
          </a:xfrm>
          <a:custGeom>
            <a:avLst/>
            <a:gdLst/>
            <a:ahLst/>
            <a:rect l="l" t="t" r="r" b="b"/>
            <a:pathLst>
              <a:path w="1008" h="1006">
                <a:moveTo>
                  <a:pt x="21" y="985"/>
                </a:moveTo>
                <a:lnTo>
                  <a:pt x="21" y="502"/>
                </a:lnTo>
                <a:lnTo>
                  <a:pt x="259" y="504"/>
                </a:lnTo>
                <a:lnTo>
                  <a:pt x="257" y="754"/>
                </a:lnTo>
                <a:lnTo>
                  <a:pt x="0" y="757"/>
                </a:lnTo>
                <a:lnTo>
                  <a:pt x="0" y="1"/>
                </a:lnTo>
                <a:lnTo>
                  <a:pt x="1008" y="0"/>
                </a:lnTo>
                <a:lnTo>
                  <a:pt x="1007" y="1005"/>
                </a:lnTo>
                <a:lnTo>
                  <a:pt x="11" y="100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62040" y="14731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6680" y="17398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22680" y="140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3120" y="1660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2000" y="1897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400" y="1149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87960" y="712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65280" y="186696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948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6927840" y="608040"/>
            <a:ext cx="1587600" cy="1604880"/>
          </a:xfrm>
          <a:custGeom>
            <a:avLst/>
            <a:gdLst/>
            <a:ahLst/>
            <a:rect l="l" t="t" r="r" b="b"/>
            <a:pathLst>
              <a:path w="1000" h="1011">
                <a:moveTo>
                  <a:pt x="258" y="1002"/>
                </a:moveTo>
                <a:lnTo>
                  <a:pt x="262" y="508"/>
                </a:lnTo>
                <a:lnTo>
                  <a:pt x="506" y="509"/>
                </a:lnTo>
                <a:lnTo>
                  <a:pt x="504" y="759"/>
                </a:lnTo>
                <a:lnTo>
                  <a:pt x="238" y="762"/>
                </a:lnTo>
                <a:lnTo>
                  <a:pt x="240" y="630"/>
                </a:lnTo>
                <a:lnTo>
                  <a:pt x="0" y="630"/>
                </a:lnTo>
                <a:lnTo>
                  <a:pt x="4" y="6"/>
                </a:lnTo>
                <a:lnTo>
                  <a:pt x="1000" y="0"/>
                </a:lnTo>
                <a:lnTo>
                  <a:pt x="1000" y="1000"/>
                </a:lnTo>
                <a:lnTo>
                  <a:pt x="258" y="101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99360" y="15922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72440" y="1666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88440" y="1335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8880" y="1587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37760" y="18241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47160" y="1690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961320" y="844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331040" y="1793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43840" y="1533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24000" y="3441600"/>
          <a:ext cx="1584000" cy="1984320"/>
        </p:xfrm>
        <a:graphic>
          <a:graphicData uri="http://schemas.openxmlformats.org/drawingml/2006/table">
            <a:tbl>
              <a:tblPr/>
              <a:tblGrid>
                <a:gridCol w="39492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Outer lo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1249560" y="4551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6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760" y="496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5000" y="48196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5760" y="3451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5400" y="46148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1760" y="408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62728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 Left,right loo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 flipV="1">
            <a:off x="3021120" y="422064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8400" y="4219560"/>
            <a:ext cx="165240" cy="3240"/>
          </a:xfrm>
          <a:custGeom>
            <a:avLst/>
            <a:gdLst/>
            <a:ahLst/>
            <a:rect l="l" t="t" r="r" b="b"/>
            <a:pathLst>
              <a:path w="104" h="2">
                <a:moveTo>
                  <a:pt x="0" y="0"/>
                </a:moveTo>
                <a:lnTo>
                  <a:pt x="104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03640" y="4221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28880" y="4433760"/>
            <a:ext cx="374760" cy="3240"/>
          </a:xfrm>
          <a:custGeom>
            <a:avLst/>
            <a:gdLst/>
            <a:ahLst/>
            <a:rect l="l" t="t" r="r" b="b"/>
            <a:pathLst>
              <a:path w="236" h="2">
                <a:moveTo>
                  <a:pt x="236" y="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624120"/>
            <a:ext cx="1440" cy="809640"/>
          </a:xfrm>
          <a:custGeom>
            <a:avLst/>
            <a:gdLst/>
            <a:ahLst/>
            <a:rect l="l" t="t" r="r" b="b"/>
            <a:pathLst>
              <a:path w="1" h="510">
                <a:moveTo>
                  <a:pt x="0" y="51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28880" y="3629160"/>
            <a:ext cx="590760" cy="2880"/>
          </a:xfrm>
          <a:custGeom>
            <a:avLst/>
            <a:gdLst/>
            <a:ahLst/>
            <a:rect l="l" t="t" r="r" b="b"/>
            <a:pathLst>
              <a:path w="372" h="2">
                <a:moveTo>
                  <a:pt x="0" y="0"/>
                </a:moveTo>
                <a:lnTo>
                  <a:pt x="372" y="2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2840" bIns="-42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419640" y="3429000"/>
            <a:ext cx="0" cy="216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203640" y="3429000"/>
            <a:ext cx="216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8320" y="3429000"/>
            <a:ext cx="1440" cy="390600"/>
          </a:xfrm>
          <a:custGeom>
            <a:avLst/>
            <a:gdLst/>
            <a:ahLst/>
            <a:rect l="l" t="t" r="r" b="b"/>
            <a:pathLst>
              <a:path w="1" h="246">
                <a:moveTo>
                  <a:pt x="0" y="0"/>
                </a:moveTo>
                <a:lnTo>
                  <a:pt x="1" y="24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3827520"/>
            <a:ext cx="100800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10200" y="3814920"/>
            <a:ext cx="2880" cy="406080"/>
          </a:xfrm>
          <a:custGeom>
            <a:avLst/>
            <a:gdLst/>
            <a:ahLst/>
            <a:rect l="l" t="t" r="r" b="b"/>
            <a:pathLst>
              <a:path w="2" h="256">
                <a:moveTo>
                  <a:pt x="0" y="0"/>
                </a:moveTo>
                <a:lnTo>
                  <a:pt x="2" y="256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4214880"/>
            <a:ext cx="401760" cy="6120"/>
          </a:xfrm>
          <a:custGeom>
            <a:avLst/>
            <a:gdLst/>
            <a:ahLst/>
            <a:rect l="l" t="t" r="r" b="b"/>
            <a:pathLst>
              <a:path w="253" h="4">
                <a:moveTo>
                  <a:pt x="253" y="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9600" bIns="-39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440" y="4005000"/>
            <a:ext cx="0" cy="215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14920" y="4005360"/>
            <a:ext cx="223560" cy="4680"/>
          </a:xfrm>
          <a:custGeom>
            <a:avLst/>
            <a:gdLst/>
            <a:ahLst/>
            <a:rect l="l" t="t" r="r" b="b"/>
            <a:pathLst>
              <a:path w="141" h="3">
                <a:moveTo>
                  <a:pt x="0" y="3"/>
                </a:moveTo>
                <a:lnTo>
                  <a:pt x="14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1040" bIns="-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4005360"/>
            <a:ext cx="0" cy="1008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24360" y="5014800"/>
            <a:ext cx="1009440" cy="5040"/>
          </a:xfrm>
          <a:custGeom>
            <a:avLst/>
            <a:gdLst/>
            <a:ahLst/>
            <a:rect l="l" t="t" r="r" b="b"/>
            <a:pathLst>
              <a:path w="636" h="3">
                <a:moveTo>
                  <a:pt x="636" y="3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716360" y="620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Collinear pa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 flipV="1">
            <a:off x="4695840" y="1407600"/>
            <a:ext cx="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95840" y="1407960"/>
            <a:ext cx="35892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2748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766760" y="1768320"/>
            <a:ext cx="360360" cy="7164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767120" y="1407960"/>
            <a:ext cx="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695840" y="615960"/>
            <a:ext cx="0" cy="72072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95840" y="615960"/>
            <a:ext cx="165564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6278040" y="615960"/>
            <a:ext cx="7308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767120" y="2200320"/>
            <a:ext cx="151128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87800" y="3608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0240" y="44211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21200" y="4200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799160" y="831600"/>
            <a:ext cx="0" cy="431640"/>
          </a:xfrm>
          <a:prstGeom prst="line">
            <a:avLst/>
          </a:prstGeom>
          <a:ln w="2844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91160" y="1792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7920" y="13874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440" y="445788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95480" y="4213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98880" y="36766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15960" y="3645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2240" y="4356000"/>
            <a:ext cx="78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32200" y="42400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716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 Two wi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 flipH="1" flipV="1">
            <a:off x="4716000" y="3789360"/>
            <a:ext cx="792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716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869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076720" y="4581360"/>
            <a:ext cx="1224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4716000" y="4220640"/>
            <a:ext cx="360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16360" y="3429000"/>
            <a:ext cx="43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8360" y="3429000"/>
            <a:ext cx="115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508720" y="422100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24360" y="3968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71960" y="3691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2560" y="35733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3520" y="40784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5440" y="4303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9680" y="47642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89560" y="48657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67560" y="47242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95920" y="386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83560" y="4437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93000" y="4365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2144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12000" y="3645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948360" y="3429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 Twin int-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2" name=""/>
          <p:cNvSpPr/>
          <p:nvPr/>
        </p:nvSpPr>
        <p:spPr>
          <a:xfrm flipH="1" flipV="1">
            <a:off x="6948000" y="3789360"/>
            <a:ext cx="36036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48360" y="3428640"/>
            <a:ext cx="115272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01080" y="3429000"/>
            <a:ext cx="43164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40720" y="4581360"/>
            <a:ext cx="79200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948000" y="422064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948360" y="3429000"/>
            <a:ext cx="79236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0720" y="3429000"/>
            <a:ext cx="792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8100720" y="4221000"/>
            <a:ext cx="43164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948360" y="4581360"/>
            <a:ext cx="1152720" cy="43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948360" y="3428640"/>
            <a:ext cx="360360" cy="115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3429000"/>
            <a:ext cx="122400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7308720" y="3789360"/>
            <a:ext cx="122400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193160" y="4809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83720" y="36702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186760" y="3557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61360" y="46926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99280" y="36846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102440" y="40258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23240" y="4098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43760" y="41846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5320" y="4299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118280" y="44006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191360" y="46562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9640" y="35733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12200" y="3506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6080" y="35290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99400" y="3500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82080" y="36702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299440" y="39751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29760" y="4341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237520" y="4724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73920" y="49100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05640" y="47782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4761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907400" y="35956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26440" y="3981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52080" y="4633920"/>
            <a:ext cx="1584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3080" y="4653000"/>
            <a:ext cx="0" cy="360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43080" y="5013360"/>
            <a:ext cx="360360" cy="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3440" y="3428640"/>
            <a:ext cx="0" cy="1584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3440" y="3419640"/>
            <a:ext cx="1191960" cy="9360"/>
          </a:xfrm>
          <a:custGeom>
            <a:avLst/>
            <a:gdLst/>
            <a:ahLst/>
            <a:rect l="l" t="t" r="r" b="b"/>
            <a:pathLst>
              <a:path w="751" h="6">
                <a:moveTo>
                  <a:pt x="0" y="6"/>
                </a:moveTo>
                <a:lnTo>
                  <a:pt x="751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36360" bIns="-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27080" y="3429000"/>
            <a:ext cx="0" cy="1224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720" y="46180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43000" y="5428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 Twins remov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241200" y="933480"/>
            <a:ext cx="571680" cy="1187280"/>
          </a:xfrm>
          <a:custGeom>
            <a:avLst/>
            <a:gdLst/>
            <a:ahLst/>
            <a:rect l="l" t="t" r="r" b="b"/>
            <a:pathLst>
              <a:path w="360" h="748">
                <a:moveTo>
                  <a:pt x="360" y="74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1200" y="542880"/>
            <a:ext cx="1181160" cy="397080"/>
          </a:xfrm>
          <a:custGeom>
            <a:avLst/>
            <a:gdLst/>
            <a:ahLst/>
            <a:rect l="l" t="t" r="r" b="b"/>
            <a:pathLst>
              <a:path w="744" h="250">
                <a:moveTo>
                  <a:pt x="0" y="250"/>
                </a:moveTo>
                <a:lnTo>
                  <a:pt x="744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28840" y="539640"/>
            <a:ext cx="399960" cy="1187640"/>
          </a:xfrm>
          <a:custGeom>
            <a:avLst/>
            <a:gdLst/>
            <a:ahLst/>
            <a:rect l="l" t="t" r="r" b="b"/>
            <a:pathLst>
              <a:path w="252" h="748">
                <a:moveTo>
                  <a:pt x="0" y="0"/>
                </a:moveTo>
                <a:lnTo>
                  <a:pt x="252" y="7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7280" y="1733400"/>
            <a:ext cx="641520" cy="393840"/>
          </a:xfrm>
          <a:custGeom>
            <a:avLst/>
            <a:gdLst/>
            <a:ahLst/>
            <a:rect l="l" t="t" r="r" b="b"/>
            <a:pathLst>
              <a:path w="404" h="248">
                <a:moveTo>
                  <a:pt x="404" y="0"/>
                </a:moveTo>
                <a:lnTo>
                  <a:pt x="0" y="24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4440" y="1336680"/>
            <a:ext cx="946080" cy="787320"/>
          </a:xfrm>
          <a:custGeom>
            <a:avLst/>
            <a:gdLst/>
            <a:ahLst/>
            <a:rect l="l" t="t" r="r" b="b"/>
            <a:pathLst>
              <a:path w="596" h="496">
                <a:moveTo>
                  <a:pt x="596" y="49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000" y="542520"/>
            <a:ext cx="79200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35000" y="542880"/>
            <a:ext cx="792360" cy="79236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32080" y="1335240"/>
            <a:ext cx="395280" cy="792000"/>
          </a:xfrm>
          <a:custGeom>
            <a:avLst/>
            <a:gdLst/>
            <a:ahLst/>
            <a:rect l="l" t="t" r="r" b="b"/>
            <a:pathLst>
              <a:path w="249" h="499">
                <a:moveTo>
                  <a:pt x="249" y="0"/>
                </a:moveTo>
                <a:lnTo>
                  <a:pt x="0" y="499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7680" y="1736640"/>
            <a:ext cx="1187280" cy="387360"/>
          </a:xfrm>
          <a:custGeom>
            <a:avLst/>
            <a:gdLst/>
            <a:ahLst/>
            <a:rect l="l" t="t" r="r" b="b"/>
            <a:pathLst>
              <a:path w="748" h="244">
                <a:moveTo>
                  <a:pt x="748" y="24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4440" y="539640"/>
            <a:ext cx="393840" cy="1197000"/>
          </a:xfrm>
          <a:custGeom>
            <a:avLst/>
            <a:gdLst/>
            <a:ahLst/>
            <a:rect l="l" t="t" r="r" b="b"/>
            <a:pathLst>
              <a:path w="248" h="754">
                <a:moveTo>
                  <a:pt x="0" y="754"/>
                </a:moveTo>
                <a:lnTo>
                  <a:pt x="24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400" y="552600"/>
            <a:ext cx="1177920" cy="380880"/>
          </a:xfrm>
          <a:custGeom>
            <a:avLst/>
            <a:gdLst/>
            <a:ahLst/>
            <a:rect l="l" t="t" r="r" b="b"/>
            <a:pathLst>
              <a:path w="742" h="240">
                <a:moveTo>
                  <a:pt x="0" y="0"/>
                </a:moveTo>
                <a:lnTo>
                  <a:pt x="742" y="24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19000" y="936720"/>
            <a:ext cx="1003320" cy="1190520"/>
          </a:xfrm>
          <a:custGeom>
            <a:avLst/>
            <a:gdLst/>
            <a:ahLst/>
            <a:rect l="l" t="t" r="r" b="b"/>
            <a:pathLst>
              <a:path w="632" h="750">
                <a:moveTo>
                  <a:pt x="632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4880" y="19670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8000" y="784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81400" y="6714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56000" y="18064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7040" y="7984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5800" y="11304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2440" y="118728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6200" y="12222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33360" y="14065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2600" y="158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1760" y="199404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53920" y="6872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06480" y="6206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0720" y="64296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93680" y="61452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11280" y="8208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109872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24040" y="145584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17760" y="1895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44520" y="204948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7240" y="18730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19080" y="196200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01680" y="7095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08120" y="114948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36560" y="112392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7280" y="1758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39800" y="861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31160" y="784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7080" y="84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6680" y="16207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95280" y="1771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920" y="620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45240" y="149076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54000" y="191448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2022480"/>
            <a:ext cx="104760" cy="720720"/>
          </a:xfrm>
          <a:custGeom>
            <a:avLst/>
            <a:gdLst/>
            <a:ahLst/>
            <a:rect l="l" t="t" r="r" b="b"/>
            <a:pathLst>
              <a:path w="66" h="454">
                <a:moveTo>
                  <a:pt x="66" y="45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2160" y="2787480"/>
            <a:ext cx="204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, maar niet 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eerste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5560" y="14130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8160" y="11714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3920" y="7635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90640" y="5666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23920" y="577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1520" y="77796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83000" y="11192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70120" y="145584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9544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32640" y="19954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800" y="200664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2409840" y="5526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 Double vis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6" name=""/>
          <p:cNvSpPr/>
          <p:nvPr/>
        </p:nvSpPr>
        <p:spPr>
          <a:xfrm>
            <a:off x="2608200" y="946080"/>
            <a:ext cx="1220760" cy="1800"/>
          </a:xfrm>
          <a:custGeom>
            <a:avLst/>
            <a:gdLst/>
            <a:ahLst/>
            <a:rect l="l" t="t" r="r" b="b"/>
            <a:pathLst>
              <a:path w="769" h="1">
                <a:moveTo>
                  <a:pt x="0" y="0"/>
                </a:moveTo>
                <a:lnTo>
                  <a:pt x="769" y="1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03640" y="942840"/>
            <a:ext cx="619200" cy="1190880"/>
          </a:xfrm>
          <a:custGeom>
            <a:avLst/>
            <a:gdLst/>
            <a:ahLst/>
            <a:rect l="l" t="t" r="r" b="b"/>
            <a:pathLst>
              <a:path w="390" h="750">
                <a:moveTo>
                  <a:pt x="390" y="0"/>
                </a:moveTo>
                <a:lnTo>
                  <a:pt x="0" y="75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409840" y="947880"/>
            <a:ext cx="793800" cy="1185840"/>
          </a:xfrm>
          <a:custGeom>
            <a:avLst/>
            <a:gdLst/>
            <a:ahLst/>
            <a:rect l="l" t="t" r="r" b="b"/>
            <a:pathLst>
              <a:path w="500" h="747">
                <a:moveTo>
                  <a:pt x="500" y="74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3080" y="549360"/>
            <a:ext cx="214200" cy="406440"/>
          </a:xfrm>
          <a:custGeom>
            <a:avLst/>
            <a:gdLst/>
            <a:ahLst/>
            <a:rect l="l" t="t" r="r" b="b"/>
            <a:pathLst>
              <a:path w="135" h="256">
                <a:moveTo>
                  <a:pt x="0" y="256"/>
                </a:moveTo>
                <a:lnTo>
                  <a:pt x="135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627280" y="549360"/>
            <a:ext cx="173160" cy="784080"/>
          </a:xfrm>
          <a:custGeom>
            <a:avLst/>
            <a:gdLst/>
            <a:ahLst/>
            <a:rect l="l" t="t" r="r" b="b"/>
            <a:pathLst>
              <a:path w="109" h="494">
                <a:moveTo>
                  <a:pt x="0" y="0"/>
                </a:moveTo>
                <a:lnTo>
                  <a:pt x="109" y="494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09800" y="549360"/>
            <a:ext cx="171360" cy="777960"/>
          </a:xfrm>
          <a:custGeom>
            <a:avLst/>
            <a:gdLst/>
            <a:ahLst/>
            <a:rect l="l" t="t" r="r" b="b"/>
            <a:pathLst>
              <a:path w="108" h="490">
                <a:moveTo>
                  <a:pt x="0" y="490"/>
                </a:moveTo>
                <a:lnTo>
                  <a:pt x="108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87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203640" y="549360"/>
            <a:ext cx="216000" cy="792000"/>
          </a:xfrm>
          <a:prstGeom prst="line">
            <a:avLst/>
          </a:prstGeom>
          <a:ln w="2844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19640" y="549360"/>
            <a:ext cx="380880" cy="1584360"/>
          </a:xfrm>
          <a:custGeom>
            <a:avLst/>
            <a:gdLst/>
            <a:ahLst/>
            <a:rect l="l" t="t" r="r" b="b"/>
            <a:pathLst>
              <a:path w="240" h="998">
                <a:moveTo>
                  <a:pt x="0" y="0"/>
                </a:moveTo>
                <a:lnTo>
                  <a:pt x="240" y="998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13080" y="1343160"/>
            <a:ext cx="1390680" cy="790560"/>
          </a:xfrm>
          <a:custGeom>
            <a:avLst/>
            <a:gdLst/>
            <a:ahLst/>
            <a:rect l="l" t="t" r="r" b="b"/>
            <a:pathLst>
              <a:path w="876" h="498">
                <a:moveTo>
                  <a:pt x="876" y="49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411280" y="946080"/>
            <a:ext cx="195480" cy="397080"/>
          </a:xfrm>
          <a:custGeom>
            <a:avLst/>
            <a:gdLst/>
            <a:ahLst/>
            <a:rect l="l" t="t" r="r" b="b"/>
            <a:pathLst>
              <a:path w="123" h="250">
                <a:moveTo>
                  <a:pt x="0" y="250"/>
                </a:moveTo>
                <a:lnTo>
                  <a:pt x="123" y="0"/>
                </a:lnTo>
              </a:path>
            </a:pathLst>
          </a:custGeom>
          <a:noFill/>
          <a:ln w="284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0200" y="1089000"/>
            <a:ext cx="3672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0" y="1317600"/>
            <a:ext cx="36360" cy="3636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332160" y="184140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8840" y="93492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9400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75120" y="92376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97120" y="92376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878200" y="930240"/>
            <a:ext cx="3636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6560" y="1547640"/>
            <a:ext cx="36720" cy="36720"/>
          </a:xfrm>
          <a:prstGeom prst="ellipse">
            <a:avLst/>
          </a:prstGeom>
          <a:solidFill>
            <a:srgbClr val="ff0000">
              <a:alpha val="80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424240" y="118908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635640" y="8683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738600" y="113652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978280" y="1855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3044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97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87820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751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1632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03880" y="739800"/>
            <a:ext cx="2808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56720" y="1459080"/>
            <a:ext cx="55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33800" y="1065240"/>
            <a:ext cx="2246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1: star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468520" y="879480"/>
            <a:ext cx="21420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0000"/>
                </a:solidFill>
                <a:latin typeface="Arial"/>
              </a:rPr>
              <a:t>L, 2: tur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4-17T18:20:10Z</dcterms:modified>
  <cp:revision>58</cp:revision>
  <dc:subject/>
  <dc:title>Slide 1</dc:title>
</cp:coreProperties>
</file>