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EAB-03BB-4033-B401-1B4286C7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681E-376B-4C62-A585-F4DECEEA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6513-3E3F-4DA8-9FB4-05B39D81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17B9-8C64-4D07-9668-848649B9D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C6A9-736D-4C36-98C1-ACB87A2C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1EE-211B-4F29-8E56-AC7E5EC3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540-6995-42BF-B9A6-0BAED865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09AF-33B2-4237-A23B-242510C3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696D-0D68-49ED-8E4D-D948D629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F9F-81C2-43D4-BCFA-FFC59519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A4D-ACD7-4849-829E-A5F942F9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D88-BE8E-4782-8115-3827B3CD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19D2-246F-46A1-AFD9-A7E0DA209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00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3520" y="7016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00720" y="6843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720" y="1103400"/>
            <a:ext cx="2076480" cy="13788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53040" y="4748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78040" y="4809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18280" y="6350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33840" y="1386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12826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26028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480" y="23875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75248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8720" y="2617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0560" y="1714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5560" y="252900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3524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3683160"/>
            <a:ext cx="60768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24120" y="40147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38520" y="3809880"/>
            <a:ext cx="17172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727360"/>
            <a:ext cx="207612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9040" y="2098800"/>
            <a:ext cx="32040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594040" y="2104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49840" y="30099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697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1120" y="3160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6880" y="551484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2760" y="4879800"/>
            <a:ext cx="815760" cy="124488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19120" y="5745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80960" y="4842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5960" y="565632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27440" y="5560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3160" y="550692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33720" y="59403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9000" y="583416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16240" y="5294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17800" y="551196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14760" y="5610240"/>
            <a:ext cx="123840" cy="219240"/>
          </a:xfrm>
          <a:custGeom>
            <a:avLst/>
            <a:gdLst/>
            <a:ahLst/>
            <a:rect l="l" t="t" r="r" b="b"/>
            <a:pathLst>
              <a:path w="78" h="138">
                <a:moveTo>
                  <a:pt x="0" y="0"/>
                </a:moveTo>
                <a:lnTo>
                  <a:pt x="78" y="138"/>
                </a:lnTo>
              </a:path>
            </a:pathLst>
          </a:custGeom>
          <a:noFill/>
          <a:ln w="28440">
            <a:solidFill>
              <a:srgbClr val="80808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11520" y="3162240"/>
            <a:ext cx="3022920" cy="1781280"/>
          </a:xfrm>
          <a:custGeom>
            <a:avLst/>
            <a:gdLst/>
            <a:ahLst/>
            <a:rect l="l" t="t" r="r" b="b"/>
            <a:pathLst>
              <a:path w="1904" h="1122">
                <a:moveTo>
                  <a:pt x="0" y="444"/>
                </a:moveTo>
                <a:lnTo>
                  <a:pt x="434" y="12"/>
                </a:lnTo>
                <a:lnTo>
                  <a:pt x="1904" y="0"/>
                </a:lnTo>
                <a:lnTo>
                  <a:pt x="1748" y="822"/>
                </a:lnTo>
                <a:lnTo>
                  <a:pt x="1274" y="1122"/>
                </a:lnTo>
                <a:lnTo>
                  <a:pt x="152" y="744"/>
                </a:lnTo>
                <a:lnTo>
                  <a:pt x="2" y="444"/>
                </a:lnTo>
                <a:lnTo>
                  <a:pt x="352" y="406"/>
                </a:lnTo>
                <a:lnTo>
                  <a:pt x="1184" y="756"/>
                </a:lnTo>
                <a:lnTo>
                  <a:pt x="1388" y="300"/>
                </a:lnTo>
                <a:lnTo>
                  <a:pt x="0" y="4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364320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95680" y="3683160"/>
            <a:ext cx="608040" cy="5688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0160" y="4014720"/>
            <a:ext cx="69516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54560" y="3809880"/>
            <a:ext cx="171360" cy="36684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79960" y="36450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24360" y="36846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8840" y="4016520"/>
            <a:ext cx="695520" cy="290520"/>
          </a:xfrm>
          <a:custGeom>
            <a:avLst/>
            <a:gdLst/>
            <a:ahLst/>
            <a:rect l="l" t="t" r="r" b="b"/>
            <a:pathLst>
              <a:path w="438" h="183">
                <a:moveTo>
                  <a:pt x="438" y="18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83240" y="3811680"/>
            <a:ext cx="171720" cy="366480"/>
          </a:xfrm>
          <a:custGeom>
            <a:avLst/>
            <a:gdLst/>
            <a:ahLst/>
            <a:rect l="l" t="t" r="r" b="b"/>
            <a:pathLst>
              <a:path w="108" h="231">
                <a:moveTo>
                  <a:pt x="108" y="0"/>
                </a:moveTo>
                <a:lnTo>
                  <a:pt x="0" y="231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86388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9000" y="4152960"/>
            <a:ext cx="186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85960" y="1428840"/>
            <a:ext cx="2238120" cy="2228760"/>
          </a:xfrm>
          <a:custGeom>
            <a:avLst/>
            <a:gdLst/>
            <a:ahLst/>
            <a:rect l="l" t="t" r="r" b="b"/>
            <a:pathLst>
              <a:path w="1410" h="1404">
                <a:moveTo>
                  <a:pt x="1410" y="0"/>
                </a:moveTo>
                <a:lnTo>
                  <a:pt x="984" y="1404"/>
                </a:lnTo>
                <a:lnTo>
                  <a:pt x="0" y="294"/>
                </a:lnTo>
                <a:lnTo>
                  <a:pt x="1410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647720" y="1933560"/>
            <a:ext cx="1133640" cy="1190520"/>
          </a:xfrm>
          <a:custGeom>
            <a:avLst/>
            <a:gdLst/>
            <a:ahLst/>
            <a:rect l="l" t="t" r="r" b="b"/>
            <a:pathLst>
              <a:path w="714" h="750">
                <a:moveTo>
                  <a:pt x="714" y="138"/>
                </a:moveTo>
                <a:lnTo>
                  <a:pt x="288" y="750"/>
                </a:lnTo>
                <a:lnTo>
                  <a:pt x="0" y="0"/>
                </a:lnTo>
                <a:lnTo>
                  <a:pt x="714" y="13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9344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41200" y="231444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40120" y="2000160"/>
            <a:ext cx="1981080" cy="1086120"/>
          </a:xfrm>
          <a:custGeom>
            <a:avLst/>
            <a:gdLst/>
            <a:ahLst/>
            <a:rect l="l" t="t" r="r" b="b"/>
            <a:pathLst>
              <a:path w="1248" h="684">
                <a:moveTo>
                  <a:pt x="1248" y="390"/>
                </a:moveTo>
                <a:lnTo>
                  <a:pt x="588" y="684"/>
                </a:lnTo>
                <a:lnTo>
                  <a:pt x="0" y="0"/>
                </a:lnTo>
                <a:lnTo>
                  <a:pt x="1248" y="39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83160" y="1484280"/>
            <a:ext cx="3481200" cy="1935360"/>
          </a:xfrm>
          <a:custGeom>
            <a:avLst/>
            <a:gdLst/>
            <a:ahLst/>
            <a:rect l="l" t="t" r="r" b="b"/>
            <a:pathLst>
              <a:path w="2193" h="1219">
                <a:moveTo>
                  <a:pt x="2193" y="967"/>
                </a:moveTo>
                <a:lnTo>
                  <a:pt x="87" y="1219"/>
                </a:lnTo>
                <a:lnTo>
                  <a:pt x="0" y="0"/>
                </a:lnTo>
                <a:lnTo>
                  <a:pt x="2193" y="9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63640" y="29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14440" y="1843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54440" y="2492280"/>
            <a:ext cx="38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∩Q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348000" y="189000"/>
            <a:ext cx="3753000" cy="4962600"/>
            <a:chOff x="3348000" y="189000"/>
            <a:chExt cx="3753000" cy="4962600"/>
          </a:xfrm>
        </p:grpSpPr>
        <p:sp>
          <p:nvSpPr>
            <p:cNvPr id="131" name=""/>
            <p:cNvSpPr/>
            <p:nvPr/>
          </p:nvSpPr>
          <p:spPr>
            <a:xfrm>
              <a:off x="3348000" y="189000"/>
              <a:ext cx="3753000" cy="4962600"/>
            </a:xfrm>
            <a:custGeom>
              <a:avLst/>
              <a:gdLst/>
              <a:ahLst/>
              <a:rect l="l" t="t" r="r" b="b"/>
              <a:pathLst>
                <a:path w="2364" h="3126">
                  <a:moveTo>
                    <a:pt x="2316" y="0"/>
                  </a:moveTo>
                  <a:lnTo>
                    <a:pt x="2364" y="3126"/>
                  </a:lnTo>
                  <a:lnTo>
                    <a:pt x="0" y="864"/>
                  </a:lnTo>
                  <a:lnTo>
                    <a:pt x="2316" y="0"/>
                  </a:lnTo>
                  <a:close/>
                </a:path>
              </a:pathLst>
            </a:custGeom>
            <a:solidFill>
              <a:srgbClr val="333399">
                <a:alpha val="30000"/>
              </a:srgbClr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5120" y="1893960"/>
              <a:ext cx="1085760" cy="1876320"/>
            </a:xfrm>
            <a:custGeom>
              <a:avLst/>
              <a:gdLst/>
              <a:ahLst/>
              <a:rect l="l" t="t" r="r" b="b"/>
              <a:pathLst>
                <a:path w="684" h="1182">
                  <a:moveTo>
                    <a:pt x="672" y="0"/>
                  </a:moveTo>
                  <a:lnTo>
                    <a:pt x="684" y="1182"/>
                  </a:lnTo>
                  <a:lnTo>
                    <a:pt x="0" y="50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43000" y="344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14520" y="1859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39640" y="907920"/>
            <a:ext cx="2781360" cy="3629160"/>
            <a:chOff x="539640" y="907920"/>
            <a:chExt cx="2781360" cy="3629160"/>
          </a:xfrm>
        </p:grpSpPr>
        <p:sp>
          <p:nvSpPr>
            <p:cNvPr id="136" name=""/>
            <p:cNvSpPr/>
            <p:nvPr/>
          </p:nvSpPr>
          <p:spPr>
            <a:xfrm>
              <a:off x="539640" y="907920"/>
              <a:ext cx="2781360" cy="3629160"/>
            </a:xfrm>
            <a:custGeom>
              <a:avLst/>
              <a:gdLst/>
              <a:ahLst/>
              <a:rect l="l" t="t" r="r" b="b"/>
              <a:pathLst>
                <a:path w="1752" h="2286">
                  <a:moveTo>
                    <a:pt x="1668" y="0"/>
                  </a:moveTo>
                  <a:lnTo>
                    <a:pt x="1752" y="2286"/>
                  </a:lnTo>
                  <a:lnTo>
                    <a:pt x="0" y="486"/>
                  </a:lnTo>
                  <a:lnTo>
                    <a:pt x="1668" y="0"/>
                  </a:lnTo>
                  <a:close/>
                </a:path>
              </a:pathLst>
            </a:custGeom>
            <a:solidFill>
              <a:srgbClr val="99cc00">
                <a:alpha val="50000"/>
              </a:srgbClr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2400" y="1184040"/>
              <a:ext cx="2009520" cy="1047960"/>
            </a:xfrm>
            <a:custGeom>
              <a:avLst/>
              <a:gdLst/>
              <a:ahLst/>
              <a:rect l="l" t="t" r="r" b="b"/>
              <a:pathLst>
                <a:path w="1266" h="660">
                  <a:moveTo>
                    <a:pt x="1266" y="0"/>
                  </a:moveTo>
                  <a:lnTo>
                    <a:pt x="774" y="660"/>
                  </a:lnTo>
                  <a:lnTo>
                    <a:pt x="0" y="360"/>
                  </a:lnTo>
                  <a:lnTo>
                    <a:pt x="1266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6699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90960" y="2482920"/>
            <a:ext cx="1085760" cy="1876320"/>
          </a:xfrm>
          <a:custGeom>
            <a:avLst/>
            <a:gdLst/>
            <a:ahLst/>
            <a:rect l="l" t="t" r="r" b="b"/>
            <a:pathLst>
              <a:path w="684" h="1182">
                <a:moveTo>
                  <a:pt x="672" y="0"/>
                </a:moveTo>
                <a:lnTo>
                  <a:pt x="684" y="1182"/>
                </a:lnTo>
                <a:lnTo>
                  <a:pt x="0" y="504"/>
                </a:lnTo>
                <a:lnTo>
                  <a:pt x="672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4800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79960" y="4597560"/>
            <a:ext cx="81576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5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5276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81500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9744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62320" y="5002200"/>
            <a:ext cx="5724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9916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0536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14180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7760" y="5986440"/>
            <a:ext cx="54900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0056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29240" y="4795920"/>
            <a:ext cx="32364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9396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42040" y="1085760"/>
            <a:ext cx="1001520" cy="1123920"/>
          </a:xfrm>
          <a:custGeom>
            <a:avLst/>
            <a:gdLst/>
            <a:ahLst/>
            <a:rect l="l" t="t" r="r" b="b"/>
            <a:pathLst>
              <a:path w="631" h="708">
                <a:moveTo>
                  <a:pt x="0" y="383"/>
                </a:moveTo>
                <a:lnTo>
                  <a:pt x="175" y="0"/>
                </a:lnTo>
                <a:lnTo>
                  <a:pt x="631" y="708"/>
                </a:lnTo>
                <a:lnTo>
                  <a:pt x="0" y="3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670720" y="1165320"/>
            <a:ext cx="529920" cy="834840"/>
          </a:xfrm>
          <a:custGeom>
            <a:avLst/>
            <a:gdLst/>
            <a:ahLst/>
            <a:rect l="l" t="t" r="r" b="b"/>
            <a:pathLst>
              <a:path w="334" h="526">
                <a:moveTo>
                  <a:pt x="0" y="0"/>
                </a:moveTo>
                <a:lnTo>
                  <a:pt x="334" y="526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33960" y="1836720"/>
            <a:ext cx="230040" cy="522360"/>
          </a:xfrm>
          <a:custGeom>
            <a:avLst/>
            <a:gdLst/>
            <a:ahLst/>
            <a:rect l="l" t="t" r="r" b="b"/>
            <a:pathLst>
              <a:path w="145" h="329">
                <a:moveTo>
                  <a:pt x="145" y="0"/>
                </a:moveTo>
                <a:lnTo>
                  <a:pt x="0" y="32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0160" y="1197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73640" y="1092240"/>
            <a:ext cx="244440" cy="522360"/>
          </a:xfrm>
          <a:custGeom>
            <a:avLst/>
            <a:gdLst/>
            <a:ahLst/>
            <a:rect l="l" t="t" r="r" b="b"/>
            <a:pathLst>
              <a:path w="154" h="329">
                <a:moveTo>
                  <a:pt x="0" y="329"/>
                </a:moveTo>
                <a:lnTo>
                  <a:pt x="1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40160" y="2104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75440" y="1628640"/>
            <a:ext cx="14256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27560" y="2614680"/>
            <a:ext cx="2809800" cy="2666880"/>
          </a:xfrm>
          <a:custGeom>
            <a:avLst/>
            <a:gdLst/>
            <a:ahLst/>
            <a:rect l="l" t="t" r="r" b="b"/>
            <a:pathLst>
              <a:path w="1770" h="1680">
                <a:moveTo>
                  <a:pt x="1326" y="0"/>
                </a:moveTo>
                <a:lnTo>
                  <a:pt x="1770" y="1242"/>
                </a:lnTo>
                <a:lnTo>
                  <a:pt x="0" y="1680"/>
                </a:lnTo>
                <a:lnTo>
                  <a:pt x="1326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36960" y="2595600"/>
            <a:ext cx="2810160" cy="3343320"/>
          </a:xfrm>
          <a:custGeom>
            <a:avLst/>
            <a:gdLst/>
            <a:ahLst/>
            <a:rect l="l" t="t" r="r" b="b"/>
            <a:pathLst>
              <a:path w="1770" h="2106">
                <a:moveTo>
                  <a:pt x="1770" y="0"/>
                </a:moveTo>
                <a:lnTo>
                  <a:pt x="882" y="2106"/>
                </a:lnTo>
                <a:lnTo>
                  <a:pt x="0" y="864"/>
                </a:lnTo>
                <a:lnTo>
                  <a:pt x="177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70440" y="340992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72000" y="3860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597280" y="360684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27640" y="4726080"/>
            <a:ext cx="142920" cy="144360"/>
          </a:xfrm>
          <a:prstGeom prst="ellipse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786200" y="5219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89600" y="4919760"/>
            <a:ext cx="247680" cy="209520"/>
          </a:xfrm>
          <a:custGeom>
            <a:avLst/>
            <a:gdLst/>
            <a:ahLst/>
            <a:rect l="l" t="t" r="r" b="b"/>
            <a:pathLst>
              <a:path w="156" h="132">
                <a:moveTo>
                  <a:pt x="156" y="0"/>
                </a:moveTo>
                <a:lnTo>
                  <a:pt x="0" y="13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27600" y="3929040"/>
            <a:ext cx="1380960" cy="1381320"/>
          </a:xfrm>
          <a:custGeom>
            <a:avLst/>
            <a:gdLst/>
            <a:ahLst/>
            <a:rect l="l" t="t" r="r" b="b"/>
            <a:pathLst>
              <a:path w="870" h="870">
                <a:moveTo>
                  <a:pt x="12" y="30"/>
                </a:moveTo>
                <a:lnTo>
                  <a:pt x="450" y="0"/>
                </a:lnTo>
                <a:lnTo>
                  <a:pt x="870" y="408"/>
                </a:lnTo>
                <a:lnTo>
                  <a:pt x="0" y="870"/>
                </a:lnTo>
                <a:lnTo>
                  <a:pt x="12" y="30"/>
                </a:lnTo>
                <a:close/>
              </a:path>
            </a:pathLst>
          </a:custGeom>
          <a:noFill/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7352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69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403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4200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450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5016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324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6680" y="262080"/>
            <a:ext cx="0" cy="619128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70080" y="6238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170080" y="1287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70080" y="19526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170080" y="261612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170080" y="328140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170080" y="394668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170080" y="461016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70080" y="5275440"/>
            <a:ext cx="6829560" cy="936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0080" y="5940360"/>
            <a:ext cx="6829560" cy="9720"/>
          </a:xfrm>
          <a:custGeom>
            <a:avLst/>
            <a:gdLst/>
            <a:ahLst/>
            <a:rect l="l" t="t" r="r" b="b"/>
            <a:pathLst>
              <a:path w="4302" h="6">
                <a:moveTo>
                  <a:pt x="4302" y="0"/>
                </a:moveTo>
                <a:lnTo>
                  <a:pt x="0" y="6"/>
                </a:lnTo>
              </a:path>
            </a:pathLst>
          </a:cu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948360" y="3952800"/>
            <a:ext cx="709920" cy="1971720"/>
          </a:xfrm>
          <a:custGeom>
            <a:avLst/>
            <a:gdLst/>
            <a:ahLst/>
            <a:rect l="l" t="t" r="r" b="b"/>
            <a:pathLst>
              <a:path w="447" h="1242">
                <a:moveTo>
                  <a:pt x="3" y="0"/>
                </a:moveTo>
                <a:lnTo>
                  <a:pt x="441" y="0"/>
                </a:lnTo>
                <a:lnTo>
                  <a:pt x="447" y="1242"/>
                </a:lnTo>
                <a:lnTo>
                  <a:pt x="0" y="1242"/>
                </a:lnTo>
                <a:lnTo>
                  <a:pt x="3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14760" y="4610160"/>
            <a:ext cx="5648040" cy="676080"/>
          </a:xfrm>
          <a:custGeom>
            <a:avLst/>
            <a:gdLst/>
            <a:ahLst/>
            <a:rect l="l" t="t" r="r" b="b"/>
            <a:pathLst>
              <a:path w="3558" h="426">
                <a:moveTo>
                  <a:pt x="0" y="426"/>
                </a:moveTo>
                <a:lnTo>
                  <a:pt x="3558" y="420"/>
                </a:lnTo>
                <a:lnTo>
                  <a:pt x="12" y="0"/>
                </a:lnTo>
                <a:lnTo>
                  <a:pt x="0" y="42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7440" y="4363920"/>
            <a:ext cx="181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Arial"/>
              </a:rPr>
              <a:t>1.0e-45</a:t>
            </a:r>
            <a:r>
              <a:rPr b="0" lang="nl-NL" sz="4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nl-NL" sz="60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4520" y="4724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1-19T13:21:18Z</dcterms:modified>
  <cp:revision>148</cp:revision>
  <dc:subject/>
  <dc:title>Slide 1</dc:title>
</cp:coreProperties>
</file>