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1BAF-6BDA-4FE6-BE04-3F567E90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5BAB-93A1-4962-BD8E-11384C5F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4E95-04D7-4D96-891D-9942858A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70F-8DBE-47DE-84D9-73D2F94E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BD1-4D35-4673-A279-525AD06E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684-5F63-436A-8A0E-58742AC6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14D-43EA-4F11-874A-1CD01B95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F24-FE75-481B-8347-3FB648B4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DF34-324A-45CA-BC1E-89646722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666-5F85-4618-8273-789B2862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D9C-1A12-4436-8084-7F212B8D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A7A7-4ED8-47BB-AEC5-044BA7D2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6BDF-2EC1-4041-BE39-4E97AF364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24000" y="324000"/>
          <a:ext cx="2327040" cy="3046320"/>
        </p:xfrm>
        <a:graphic>
          <a:graphicData uri="http://schemas.openxmlformats.org/drawingml/2006/table">
            <a:tbl>
              <a:tblPr/>
              <a:tblGrid>
                <a:gridCol w="465120"/>
                <a:gridCol w="465120"/>
                <a:gridCol w="466560"/>
                <a:gridCol w="465120"/>
                <a:gridCol w="4651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e 1, simpl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 flipH="1" flipV="1">
            <a:off x="323640" y="1341000"/>
            <a:ext cx="1368360" cy="15829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8280" y="343080"/>
            <a:ext cx="1816200" cy="1015920"/>
          </a:xfrm>
          <a:custGeom>
            <a:avLst/>
            <a:gdLst/>
            <a:ahLst/>
            <a:rect l="l" t="t" r="r" b="b"/>
            <a:pathLst>
              <a:path w="1144" h="640">
                <a:moveTo>
                  <a:pt x="0" y="640"/>
                </a:moveTo>
                <a:lnTo>
                  <a:pt x="114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01720" y="343080"/>
            <a:ext cx="470160" cy="2590560"/>
          </a:xfrm>
          <a:custGeom>
            <a:avLst/>
            <a:gdLst/>
            <a:ahLst/>
            <a:rect l="l" t="t" r="r" b="b"/>
            <a:pathLst>
              <a:path w="296" h="1632">
                <a:moveTo>
                  <a:pt x="296" y="0"/>
                </a:moveTo>
                <a:lnTo>
                  <a:pt x="0" y="163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080" y="368280"/>
            <a:ext cx="888840" cy="2019240"/>
          </a:xfrm>
          <a:custGeom>
            <a:avLst/>
            <a:gdLst/>
            <a:ahLst/>
            <a:rect l="l" t="t" r="r" b="b"/>
            <a:pathLst>
              <a:path w="560" h="1272">
                <a:moveTo>
                  <a:pt x="0" y="1272"/>
                </a:moveTo>
                <a:lnTo>
                  <a:pt x="56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44520" y="368280"/>
            <a:ext cx="1371600" cy="996840"/>
          </a:xfrm>
          <a:custGeom>
            <a:avLst/>
            <a:gdLst/>
            <a:ahLst/>
            <a:rect l="l" t="t" r="r" b="b"/>
            <a:pathLst>
              <a:path w="864" h="628">
                <a:moveTo>
                  <a:pt x="0" y="0"/>
                </a:moveTo>
                <a:lnTo>
                  <a:pt x="864" y="62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3080" y="1384200"/>
            <a:ext cx="2286000" cy="1028880"/>
          </a:xfrm>
          <a:custGeom>
            <a:avLst/>
            <a:gdLst/>
            <a:ahLst/>
            <a:rect l="l" t="t" r="r" b="b"/>
            <a:pathLst>
              <a:path w="1440" h="648">
                <a:moveTo>
                  <a:pt x="1440" y="0"/>
                </a:moveTo>
                <a:lnTo>
                  <a:pt x="0" y="64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242100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3240" y="27097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35200" y="1873080"/>
            <a:ext cx="19080" cy="1041480"/>
          </a:xfrm>
          <a:custGeom>
            <a:avLst/>
            <a:gdLst/>
            <a:ahLst/>
            <a:rect l="l" t="t" r="r" b="b"/>
            <a:pathLst>
              <a:path w="12" h="656">
                <a:moveTo>
                  <a:pt x="12" y="0"/>
                </a:moveTo>
                <a:lnTo>
                  <a:pt x="0" y="65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280" y="2413080"/>
            <a:ext cx="1815840" cy="514440"/>
          </a:xfrm>
          <a:custGeom>
            <a:avLst/>
            <a:gdLst/>
            <a:ahLst/>
            <a:rect l="l" t="t" r="r" b="b"/>
            <a:pathLst>
              <a:path w="1144" h="324">
                <a:moveTo>
                  <a:pt x="1144" y="3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1200" y="1879560"/>
            <a:ext cx="1854000" cy="507960"/>
          </a:xfrm>
          <a:custGeom>
            <a:avLst/>
            <a:gdLst/>
            <a:ahLst/>
            <a:rect l="l" t="t" r="r" b="b"/>
            <a:pathLst>
              <a:path w="1168" h="320">
                <a:moveTo>
                  <a:pt x="0" y="320"/>
                </a:moveTo>
                <a:lnTo>
                  <a:pt x="116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6-26T09:14:36Z</dcterms:modified>
  <cp:revision>62</cp:revision>
  <dc:subject/>
  <dc:title>Slide 1</dc:title>
</cp:coreProperties>
</file>