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C0D9-1594-49F0-BEC1-2C2FDE65F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7007-DB05-4EA0-980E-BCF937A2E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415F-358F-4F52-A72C-79A504D10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8E1D-C29F-4D7C-A784-D9A12EE36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07B5-47DA-4D29-B96F-E4DBDC03C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93F3-37F5-464C-8CFA-68AC866F1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865A-D63B-416A-8392-4B9A94F65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Line 8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9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10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1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2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3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4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5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6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4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5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6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7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Text Box 28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Text Box 29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2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3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Text Box 34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Text Box 35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Group 36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Line 37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Line 38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Line 39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Line 40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Line 41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Line 42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Line 43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Line 44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Line 45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6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7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8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9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50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1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2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3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55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56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57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8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9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0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1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2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63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64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5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Line 66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67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68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69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70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1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72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73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74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5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6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7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8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9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80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81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2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3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85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86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7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88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89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90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91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92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93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94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Line 95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96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97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98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99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00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01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02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3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04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5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6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7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8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9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0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11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12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3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14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15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16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7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18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9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0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1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122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 linestring/polygon</a:t>
            </a:r>
            <a:br>
              <a:rPr sz="44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estcases for intersection/dif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6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7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8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0"/>
          <p:cNvSpPr/>
          <p:nvPr/>
        </p:nvSpPr>
        <p:spPr>
          <a:xfrm>
            <a:off x="291240" y="168120"/>
            <a:ext cx="851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5006160" y="16344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29124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3"/>
          <p:cNvSpPr/>
          <p:nvPr/>
        </p:nvSpPr>
        <p:spPr>
          <a:xfrm>
            <a:off x="5018760" y="357336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65"/>
          <p:cNvSpPr/>
          <p:nvPr/>
        </p:nvSpPr>
        <p:spPr>
          <a:xfrm>
            <a:off x="58428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65"/>
          <p:cNvSpPr/>
          <p:nvPr/>
        </p:nvSpPr>
        <p:spPr>
          <a:xfrm>
            <a:off x="5286240" y="2303640"/>
            <a:ext cx="650880" cy="6238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>
            <a:off x="262080" y="2630520"/>
            <a:ext cx="1306440" cy="9360"/>
          </a:xfrm>
          <a:custGeom>
            <a:avLst/>
            <a:gdLst/>
            <a:ahLst/>
            <a:rect l="l" t="t" r="r" b="b"/>
            <a:pathLst>
              <a:path w="10204" h="699">
                <a:moveTo>
                  <a:pt x="0" y="0"/>
                </a:moveTo>
                <a:lnTo>
                  <a:pt x="10204" y="69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4940280" y="2319480"/>
            <a:ext cx="1366920" cy="609480"/>
          </a:xfrm>
          <a:custGeom>
            <a:avLst/>
            <a:gdLst/>
            <a:ahLst/>
            <a:rect l="l" t="t" r="r" b="b"/>
            <a:pathLst>
              <a:path w="10261" h="78115">
                <a:moveTo>
                  <a:pt x="0" y="78115"/>
                </a:moveTo>
                <a:lnTo>
                  <a:pt x="1026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65"/>
          <p:cNvSpPr/>
          <p:nvPr/>
        </p:nvSpPr>
        <p:spPr>
          <a:xfrm>
            <a:off x="909720" y="5157720"/>
            <a:ext cx="998280" cy="15480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279360" y="5481720"/>
            <a:ext cx="2255760" cy="938160"/>
          </a:xfrm>
          <a:custGeom>
            <a:avLst/>
            <a:gdLst/>
            <a:ahLst/>
            <a:rect l="l" t="t" r="r" b="b"/>
            <a:pathLst>
              <a:path w="16940" h="120324">
                <a:moveTo>
                  <a:pt x="0" y="120324"/>
                </a:moveTo>
                <a:lnTo>
                  <a:pt x="2118" y="77150"/>
                </a:lnTo>
                <a:lnTo>
                  <a:pt x="7059" y="77150"/>
                </a:lnTo>
                <a:lnTo>
                  <a:pt x="9255" y="39631"/>
                </a:lnTo>
                <a:lnTo>
                  <a:pt x="14561" y="36505"/>
                </a:lnTo>
                <a:lnTo>
                  <a:pt x="1694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65"/>
          <p:cNvSpPr/>
          <p:nvPr/>
        </p:nvSpPr>
        <p:spPr>
          <a:xfrm>
            <a:off x="4962600" y="5468760"/>
            <a:ext cx="664920" cy="12211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5267160" y="5748480"/>
            <a:ext cx="719280" cy="653760"/>
          </a:xfrm>
          <a:custGeom>
            <a:avLst/>
            <a:gdLst/>
            <a:ahLst/>
            <a:rect l="l" t="t" r="r" b="b"/>
            <a:pathLst>
              <a:path w="7297" h="10000">
                <a:moveTo>
                  <a:pt x="353" y="10000"/>
                </a:moveTo>
                <a:lnTo>
                  <a:pt x="7297" y="503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0"/>
          <p:cNvSpPr/>
          <p:nvPr/>
        </p:nvSpPr>
        <p:spPr>
          <a:xfrm>
            <a:off x="297360" y="168120"/>
            <a:ext cx="2984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5 (2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5079240" y="163440"/>
            <a:ext cx="34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6 (many IP’s on 1 seg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293400" y="3573360"/>
            <a:ext cx="232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7 (no IP’s in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3"/>
          <p:cNvSpPr/>
          <p:nvPr/>
        </p:nvSpPr>
        <p:spPr>
          <a:xfrm>
            <a:off x="5021640" y="3573360"/>
            <a:ext cx="247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8 (no IP’s outs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65"/>
          <p:cNvSpPr/>
          <p:nvPr/>
        </p:nvSpPr>
        <p:spPr>
          <a:xfrm>
            <a:off x="568440" y="2303640"/>
            <a:ext cx="652320" cy="63468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65"/>
          <p:cNvSpPr/>
          <p:nvPr/>
        </p:nvSpPr>
        <p:spPr>
          <a:xfrm>
            <a:off x="576360" y="5773680"/>
            <a:ext cx="64440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7"/>
          <p:cNvSpPr/>
          <p:nvPr/>
        </p:nvSpPr>
        <p:spPr>
          <a:xfrm>
            <a:off x="233280" y="1994040"/>
            <a:ext cx="1001880" cy="954000"/>
          </a:xfrm>
          <a:custGeom>
            <a:avLst/>
            <a:gdLst/>
            <a:ahLst/>
            <a:rect l="l" t="t" r="r" b="b"/>
            <a:pathLst>
              <a:path w="10512" h="10539">
                <a:moveTo>
                  <a:pt x="0" y="10539"/>
                </a:moveTo>
                <a:lnTo>
                  <a:pt x="105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7"/>
          <p:cNvSpPr/>
          <p:nvPr/>
        </p:nvSpPr>
        <p:spPr>
          <a:xfrm>
            <a:off x="763560" y="5886360"/>
            <a:ext cx="317520" cy="339840"/>
          </a:xfrm>
          <a:custGeom>
            <a:avLst/>
            <a:gdLst/>
            <a:ahLst/>
            <a:rect l="l" t="t" r="r" b="b"/>
            <a:pathLst>
              <a:path w="10398" h="11669">
                <a:moveTo>
                  <a:pt x="0" y="11669"/>
                </a:moveTo>
                <a:lnTo>
                  <a:pt x="103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5"/>
          <p:cNvSpPr/>
          <p:nvPr/>
        </p:nvSpPr>
        <p:spPr>
          <a:xfrm>
            <a:off x="5292720" y="5773680"/>
            <a:ext cx="711360" cy="60804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7"/>
          <p:cNvSpPr/>
          <p:nvPr/>
        </p:nvSpPr>
        <p:spPr>
          <a:xfrm>
            <a:off x="5348160" y="6710400"/>
            <a:ext cx="293760" cy="360"/>
          </a:xfrm>
          <a:custGeom>
            <a:avLst/>
            <a:gdLst/>
            <a:ahLst/>
            <a:rect l="l" t="t" r="r" b="b"/>
            <a:pathLst>
              <a:path w="10000" h="104">
                <a:moveTo>
                  <a:pt x="0" y="0"/>
                </a:moveTo>
                <a:lnTo>
                  <a:pt x="10000" y="1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65"/>
          <p:cNvSpPr/>
          <p:nvPr/>
        </p:nvSpPr>
        <p:spPr>
          <a:xfrm>
            <a:off x="5603760" y="1963800"/>
            <a:ext cx="2333880" cy="1282680"/>
          </a:xfrm>
          <a:custGeom>
            <a:avLst/>
            <a:gdLst/>
            <a:ahLst/>
            <a:rect l="l" t="t" r="r" b="b"/>
            <a:pathLst>
              <a:path w="36343" h="20577">
                <a:moveTo>
                  <a:pt x="0" y="20577"/>
                </a:moveTo>
                <a:cubicBezTo>
                  <a:pt x="48" y="13848"/>
                  <a:pt x="97" y="7119"/>
                  <a:pt x="145" y="390"/>
                </a:cubicBezTo>
                <a:lnTo>
                  <a:pt x="5649" y="585"/>
                </a:lnTo>
                <a:cubicBezTo>
                  <a:pt x="5459" y="5210"/>
                  <a:pt x="5460" y="10812"/>
                  <a:pt x="5270" y="15437"/>
                </a:cubicBezTo>
                <a:lnTo>
                  <a:pt x="9826" y="15633"/>
                </a:lnTo>
                <a:cubicBezTo>
                  <a:pt x="9889" y="10552"/>
                  <a:pt x="9953" y="5471"/>
                  <a:pt x="10016" y="390"/>
                </a:cubicBezTo>
                <a:lnTo>
                  <a:pt x="15331" y="586"/>
                </a:lnTo>
                <a:cubicBezTo>
                  <a:pt x="15521" y="5602"/>
                  <a:pt x="14951" y="10617"/>
                  <a:pt x="15141" y="15633"/>
                </a:cubicBezTo>
                <a:lnTo>
                  <a:pt x="20836" y="16023"/>
                </a:lnTo>
                <a:cubicBezTo>
                  <a:pt x="21216" y="10877"/>
                  <a:pt x="20456" y="5146"/>
                  <a:pt x="20836" y="0"/>
                </a:cubicBezTo>
                <a:lnTo>
                  <a:pt x="25961" y="194"/>
                </a:lnTo>
                <a:cubicBezTo>
                  <a:pt x="25581" y="5145"/>
                  <a:pt x="26151" y="10291"/>
                  <a:pt x="25771" y="15242"/>
                </a:cubicBezTo>
                <a:lnTo>
                  <a:pt x="30896" y="15633"/>
                </a:lnTo>
                <a:cubicBezTo>
                  <a:pt x="30706" y="10422"/>
                  <a:pt x="30707" y="5796"/>
                  <a:pt x="30517" y="585"/>
                </a:cubicBezTo>
                <a:lnTo>
                  <a:pt x="-29193" y="114"/>
                </a:lnTo>
                <a:cubicBezTo>
                  <a:pt x="-29206" y="3400"/>
                  <a:pt x="-29366" y="16964"/>
                  <a:pt x="-29379" y="20250"/>
                </a:cubicBezTo>
                <a:lnTo>
                  <a:pt x="0" y="2057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7"/>
          <p:cNvSpPr/>
          <p:nvPr/>
        </p:nvSpPr>
        <p:spPr>
          <a:xfrm>
            <a:off x="5324400" y="2306520"/>
            <a:ext cx="2892600" cy="623880"/>
          </a:xfrm>
          <a:custGeom>
            <a:avLst/>
            <a:gdLst/>
            <a:ahLst/>
            <a:rect l="l" t="t" r="r" b="b"/>
            <a:pathLst>
              <a:path w="9443" h="9809">
                <a:moveTo>
                  <a:pt x="0" y="9809"/>
                </a:moveTo>
                <a:lnTo>
                  <a:pt x="94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0"/>
          <p:cNvSpPr/>
          <p:nvPr/>
        </p:nvSpPr>
        <p:spPr>
          <a:xfrm>
            <a:off x="291240" y="168120"/>
            <a:ext cx="63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28620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233280" y="2620800"/>
            <a:ext cx="660600" cy="327240"/>
          </a:xfrm>
          <a:custGeom>
            <a:avLst/>
            <a:gdLst/>
            <a:ahLst/>
            <a:rect l="l" t="t" r="r" b="b"/>
            <a:pathLst>
              <a:path w="10188" h="11046">
                <a:moveTo>
                  <a:pt x="0" y="11046"/>
                </a:moveTo>
                <a:lnTo>
                  <a:pt x="5616" y="0"/>
                </a:lnTo>
                <a:lnTo>
                  <a:pt x="10188" y="22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"/>
          <p:cNvSpPr/>
          <p:nvPr/>
        </p:nvSpPr>
        <p:spPr>
          <a:xfrm>
            <a:off x="4976640" y="2316240"/>
            <a:ext cx="314640" cy="612720"/>
          </a:xfrm>
          <a:custGeom>
            <a:avLst/>
            <a:gdLst/>
            <a:ahLst/>
            <a:rect l="l" t="t" r="r" b="b"/>
            <a:pathLst>
              <a:path w="4864" h="20718">
                <a:moveTo>
                  <a:pt x="0" y="20718"/>
                </a:moveTo>
                <a:lnTo>
                  <a:pt x="4864" y="11321"/>
                </a:lnTo>
                <a:lnTo>
                  <a:pt x="3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"/>
          <p:cNvSpPr/>
          <p:nvPr/>
        </p:nvSpPr>
        <p:spPr>
          <a:xfrm>
            <a:off x="911160" y="5754600"/>
            <a:ext cx="631800" cy="333360"/>
          </a:xfrm>
          <a:custGeom>
            <a:avLst/>
            <a:gdLst/>
            <a:ahLst/>
            <a:rect l="l" t="t" r="r" b="b"/>
            <a:pathLst>
              <a:path w="20054" h="5424">
                <a:moveTo>
                  <a:pt x="0" y="5424"/>
                </a:moveTo>
                <a:lnTo>
                  <a:pt x="20054" y="5265"/>
                </a:lnTo>
                <a:lnTo>
                  <a:pt x="101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"/>
          <p:cNvSpPr/>
          <p:nvPr/>
        </p:nvSpPr>
        <p:spPr>
          <a:xfrm>
            <a:off x="5653080" y="4805280"/>
            <a:ext cx="941400" cy="1001880"/>
          </a:xfrm>
          <a:custGeom>
            <a:avLst/>
            <a:gdLst/>
            <a:ahLst/>
            <a:rect l="l" t="t" r="r" b="b"/>
            <a:pathLst>
              <a:path w="29842" h="24732">
                <a:moveTo>
                  <a:pt x="0" y="24732"/>
                </a:moveTo>
                <a:lnTo>
                  <a:pt x="20055" y="16074"/>
                </a:lnTo>
                <a:lnTo>
                  <a:pt x="2984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65"/>
          <p:cNvSpPr/>
          <p:nvPr/>
        </p:nvSpPr>
        <p:spPr>
          <a:xfrm>
            <a:off x="568440" y="1989000"/>
            <a:ext cx="979200" cy="9493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9507" h="5099">
                <a:moveTo>
                  <a:pt x="582" y="5035"/>
                </a:moveTo>
                <a:lnTo>
                  <a:pt x="9131" y="5099"/>
                </a:lnTo>
                <a:cubicBezTo>
                  <a:pt x="9256" y="3400"/>
                  <a:pt x="9381" y="1701"/>
                  <a:pt x="9507" y="0"/>
                </a:cubicBezTo>
                <a:lnTo>
                  <a:pt x="0" y="37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65"/>
          <p:cNvSpPr/>
          <p:nvPr/>
        </p:nvSpPr>
        <p:spPr>
          <a:xfrm>
            <a:off x="5280120" y="1989000"/>
            <a:ext cx="1020600" cy="9558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5766" h="5118">
                <a:moveTo>
                  <a:pt x="5367" y="5054"/>
                </a:moveTo>
                <a:lnTo>
                  <a:pt x="0" y="5118"/>
                </a:lnTo>
                <a:cubicBezTo>
                  <a:pt x="65" y="3412"/>
                  <a:pt x="130" y="1707"/>
                  <a:pt x="196" y="0"/>
                </a:cubicBezTo>
                <a:lnTo>
                  <a:pt x="5766" y="2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"/>
          <p:cNvSpPr/>
          <p:nvPr/>
        </p:nvSpPr>
        <p:spPr>
          <a:xfrm>
            <a:off x="907920" y="1971720"/>
            <a:ext cx="642960" cy="636480"/>
          </a:xfrm>
          <a:custGeom>
            <a:avLst/>
            <a:gdLst/>
            <a:ahLst/>
            <a:rect l="l" t="t" r="r" b="b"/>
            <a:pathLst>
              <a:path w="10189" h="19159">
                <a:moveTo>
                  <a:pt x="5147" y="19159"/>
                </a:moveTo>
                <a:lnTo>
                  <a:pt x="10189" y="0"/>
                </a:lnTo>
                <a:lnTo>
                  <a:pt x="0" y="1073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"/>
          <p:cNvSpPr/>
          <p:nvPr/>
        </p:nvSpPr>
        <p:spPr>
          <a:xfrm>
            <a:off x="6284880" y="1390680"/>
            <a:ext cx="639720" cy="606240"/>
          </a:xfrm>
          <a:custGeom>
            <a:avLst/>
            <a:gdLst/>
            <a:ahLst/>
            <a:rect l="l" t="t" r="r" b="b"/>
            <a:pathLst>
              <a:path w="20284" h="14966">
                <a:moveTo>
                  <a:pt x="10055" y="0"/>
                </a:moveTo>
                <a:lnTo>
                  <a:pt x="0" y="14966"/>
                </a:lnTo>
                <a:lnTo>
                  <a:pt x="20284" y="726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0"/>
          <p:cNvSpPr/>
          <p:nvPr/>
        </p:nvSpPr>
        <p:spPr>
          <a:xfrm>
            <a:off x="292320" y="16812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5007240" y="16344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2"/>
          <p:cNvSpPr/>
          <p:nvPr/>
        </p:nvSpPr>
        <p:spPr>
          <a:xfrm>
            <a:off x="29232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3"/>
          <p:cNvSpPr/>
          <p:nvPr/>
        </p:nvSpPr>
        <p:spPr>
          <a:xfrm>
            <a:off x="5019840" y="3573360"/>
            <a:ext cx="75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5"/>
          <p:cNvSpPr/>
          <p:nvPr/>
        </p:nvSpPr>
        <p:spPr>
          <a:xfrm>
            <a:off x="576360" y="1700280"/>
            <a:ext cx="971280" cy="124920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"/>
          <p:cNvSpPr/>
          <p:nvPr/>
        </p:nvSpPr>
        <p:spPr>
          <a:xfrm>
            <a:off x="249120" y="1376280"/>
            <a:ext cx="1643040" cy="157500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65"/>
          <p:cNvSpPr/>
          <p:nvPr/>
        </p:nvSpPr>
        <p:spPr>
          <a:xfrm>
            <a:off x="5300640" y="1693800"/>
            <a:ext cx="1316160" cy="124956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7"/>
          <p:cNvSpPr/>
          <p:nvPr/>
        </p:nvSpPr>
        <p:spPr>
          <a:xfrm>
            <a:off x="4973760" y="1370160"/>
            <a:ext cx="1643040" cy="1574640"/>
          </a:xfrm>
          <a:custGeom>
            <a:avLst/>
            <a:gdLst/>
            <a:ahLst/>
            <a:rect l="l" t="t" r="r" b="b"/>
            <a:pathLst>
              <a:path w="45994" h="47694">
                <a:moveTo>
                  <a:pt x="18340" y="-27610"/>
                </a:moveTo>
                <a:cubicBezTo>
                  <a:pt x="18325" y="-24354"/>
                  <a:pt x="18311" y="-21098"/>
                  <a:pt x="18296" y="-17842"/>
                </a:cubicBezTo>
                <a:lnTo>
                  <a:pt x="-28871" y="-18110"/>
                </a:lnTo>
                <a:cubicBezTo>
                  <a:pt x="-28866" y="-21401"/>
                  <a:pt x="-28862" y="-24692"/>
                  <a:pt x="-28857" y="-27983"/>
                </a:cubicBezTo>
                <a:lnTo>
                  <a:pt x="-19542" y="-27468"/>
                </a:lnTo>
                <a:cubicBezTo>
                  <a:pt x="-19559" y="-30659"/>
                  <a:pt x="-19575" y="31685"/>
                  <a:pt x="-19592" y="28494"/>
                </a:cubicBezTo>
                <a:lnTo>
                  <a:pt x="-29149" y="28863"/>
                </a:lnTo>
                <a:cubicBezTo>
                  <a:pt x="-29196" y="25369"/>
                  <a:pt x="-29111" y="22380"/>
                  <a:pt x="-29158" y="18886"/>
                </a:cubicBezTo>
                <a:lnTo>
                  <a:pt x="-19709" y="18678"/>
                </a:lnTo>
                <a:lnTo>
                  <a:pt x="27536" y="0"/>
                </a:lnTo>
                <a:cubicBezTo>
                  <a:pt x="27414" y="3098"/>
                  <a:pt x="27626" y="6989"/>
                  <a:pt x="27504" y="10087"/>
                </a:cubicBezTo>
                <a:lnTo>
                  <a:pt x="18096" y="10024"/>
                </a:lnTo>
                <a:cubicBezTo>
                  <a:pt x="17982" y="6947"/>
                  <a:pt x="18469" y="3222"/>
                  <a:pt x="18355" y="145"/>
                </a:cubicBezTo>
                <a:lnTo>
                  <a:pt x="0" y="19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5"/>
          <p:cNvSpPr/>
          <p:nvPr/>
        </p:nvSpPr>
        <p:spPr>
          <a:xfrm>
            <a:off x="576360" y="5445000"/>
            <a:ext cx="97128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7"/>
          <p:cNvSpPr/>
          <p:nvPr/>
        </p:nvSpPr>
        <p:spPr>
          <a:xfrm>
            <a:off x="249120" y="5762520"/>
            <a:ext cx="308160" cy="33048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9605" y="10000"/>
                </a:moveTo>
                <a:cubicBezTo>
                  <a:pt x="9736" y="6668"/>
                  <a:pt x="9867" y="3336"/>
                  <a:pt x="10000" y="0"/>
                </a:cubicBezTo>
                <a:lnTo>
                  <a:pt x="0" y="7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5"/>
          <p:cNvSpPr/>
          <p:nvPr/>
        </p:nvSpPr>
        <p:spPr>
          <a:xfrm>
            <a:off x="5292720" y="5445000"/>
            <a:ext cx="1008000" cy="936720"/>
          </a:xfrm>
          <a:custGeom>
            <a:avLst/>
            <a:gdLst/>
            <a:ahLst/>
            <a:rect l="l" t="t" r="r" b="b"/>
            <a:pathLst>
              <a:path w="10148" h="10169">
                <a:moveTo>
                  <a:pt x="0" y="169"/>
                </a:moveTo>
                <a:lnTo>
                  <a:pt x="10148" y="0"/>
                </a:lnTo>
                <a:cubicBezTo>
                  <a:pt x="10135" y="3286"/>
                  <a:pt x="9974" y="6883"/>
                  <a:pt x="9961" y="10169"/>
                </a:cubicBezTo>
                <a:lnTo>
                  <a:pt x="0" y="9910"/>
                </a:lnTo>
                <a:lnTo>
                  <a:pt x="0" y="16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7"/>
          <p:cNvSpPr/>
          <p:nvPr/>
        </p:nvSpPr>
        <p:spPr>
          <a:xfrm>
            <a:off x="5249880" y="5753160"/>
            <a:ext cx="357120" cy="330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10000"/>
                </a:moveTo>
                <a:cubicBezTo>
                  <a:pt x="113" y="6667"/>
                  <a:pt x="225" y="3335"/>
                  <a:pt x="340" y="0"/>
                </a:cubicBezTo>
                <a:lnTo>
                  <a:pt x="10000" y="4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</cp:lastModifiedBy>
  <dcterms:modified xsi:type="dcterms:W3CDTF">2011-11-20T15:30:02Z</dcterms:modified>
  <cp:revision>408</cp:revision>
  <dc:subject/>
  <dc:title>Slide 1</dc:title>
</cp:coreProperties>
</file>