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C178-44DD-4884-9890-06BF980A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030-1FA8-42CE-A27D-439725C2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5CC1-B3CF-4592-9907-91E38E345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EDF-B2D0-4BF6-A6BB-596A7A6A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1B09-CCDB-433E-8069-4B5662B7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15F-58FA-461F-A257-45A4FFE4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F66-A0B5-427E-A032-5E0B2B1F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02B-5A72-4046-993B-33AE556B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24B-5F3E-44DB-9D45-C44BCC23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00B8-1CE0-4990-A87D-8344F80C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47EA-F734-472E-BA4F-88273EACC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9394-2F1F-4AF4-9245-A59CAC0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708-C4B1-4C1F-8F24-DB301483E6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4019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67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718320" y="1508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ends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1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62640" y="3425760"/>
          <a:ext cx="158400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ends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2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2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360" y="711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353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19840" y="901800"/>
            <a:ext cx="546120" cy="303120"/>
          </a:xfrm>
          <a:custGeom>
            <a:avLst/>
            <a:gdLst/>
            <a:ahLst/>
            <a:rect l="l" t="t" r="r" b="b"/>
            <a:pathLst>
              <a:path w="344" h="191">
                <a:moveTo>
                  <a:pt x="0" y="0"/>
                </a:moveTo>
                <a:lnTo>
                  <a:pt x="172" y="191"/>
                </a:ln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8640" y="4368960"/>
            <a:ext cx="242640" cy="507960"/>
          </a:xfrm>
          <a:custGeom>
            <a:avLst/>
            <a:gdLst/>
            <a:ahLst/>
            <a:rect l="l" t="t" r="r" b="b"/>
            <a:pathLst>
              <a:path w="153" h="320">
                <a:moveTo>
                  <a:pt x="0" y="320"/>
                </a:moveTo>
                <a:lnTo>
                  <a:pt x="153" y="15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13160" y="4780080"/>
            <a:ext cx="522000" cy="304560"/>
          </a:xfrm>
          <a:custGeom>
            <a:avLst/>
            <a:gdLst/>
            <a:ahLst/>
            <a:rect l="l" t="t" r="r" b="b"/>
            <a:pathLst>
              <a:path w="329" h="192">
                <a:moveTo>
                  <a:pt x="0" y="192"/>
                </a:moveTo>
                <a:lnTo>
                  <a:pt x="192" y="0"/>
                </a:lnTo>
                <a:lnTo>
                  <a:pt x="329" y="14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5680" y="3784680"/>
            <a:ext cx="498240" cy="291960"/>
          </a:xfrm>
          <a:custGeom>
            <a:avLst/>
            <a:gdLst/>
            <a:ahLst/>
            <a:rect l="l" t="t" r="r" b="b"/>
            <a:pathLst>
              <a:path w="314" h="184">
                <a:moveTo>
                  <a:pt x="0" y="184"/>
                </a:moveTo>
                <a:lnTo>
                  <a:pt x="314" y="181"/>
                </a:lnTo>
                <a:lnTo>
                  <a:pt x="30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4960" y="341964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5019840"/>
            <a:ext cx="219240" cy="209520"/>
          </a:xfrm>
          <a:custGeom>
            <a:avLst/>
            <a:gdLst/>
            <a:ahLst/>
            <a:rect l="l" t="t" r="r" b="b"/>
            <a:pathLst>
              <a:path w="138" h="132">
                <a:moveTo>
                  <a:pt x="0" y="0"/>
                </a:moveTo>
                <a:lnTo>
                  <a:pt x="138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30260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46656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2627280" y="75564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angle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4778280" y="762120"/>
          <a:ext cx="1584360" cy="29160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angle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6948360" y="76032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end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480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e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26319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start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797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start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948360" y="3635280"/>
          <a:ext cx="1584360" cy="29163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 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14600" y="4552920"/>
            <a:ext cx="361800" cy="285840"/>
          </a:xfrm>
          <a:custGeom>
            <a:avLst/>
            <a:gdLst/>
            <a:ahLst/>
            <a:rect l="l" t="t" r="r" b="b"/>
            <a:pathLst>
              <a:path w="228" h="180">
                <a:moveTo>
                  <a:pt x="228" y="18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00560" y="4962600"/>
            <a:ext cx="247680" cy="266760"/>
          </a:xfrm>
          <a:custGeom>
            <a:avLst/>
            <a:gdLst/>
            <a:ahLst/>
            <a:rect l="l" t="t" r="r" b="b"/>
            <a:pathLst>
              <a:path w="156" h="168">
                <a:moveTo>
                  <a:pt x="0" y="0"/>
                </a:moveTo>
                <a:lnTo>
                  <a:pt x="156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550280" y="4597560"/>
            <a:ext cx="222120" cy="482400"/>
          </a:xfrm>
          <a:custGeom>
            <a:avLst/>
            <a:gdLst/>
            <a:ahLst/>
            <a:rect l="l" t="t" r="r" b="b"/>
            <a:pathLst>
              <a:path w="140" h="304">
                <a:moveTo>
                  <a:pt x="140" y="304"/>
                </a:moveTo>
                <a:lnTo>
                  <a:pt x="0" y="146"/>
                </a:ln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74000" y="1511280"/>
            <a:ext cx="444240" cy="225360"/>
          </a:xfrm>
          <a:custGeom>
            <a:avLst/>
            <a:gdLst/>
            <a:ahLst/>
            <a:rect l="l" t="t" r="r" b="b"/>
            <a:pathLst>
              <a:path w="280" h="142">
                <a:moveTo>
                  <a:pt x="0" y="0"/>
                </a:moveTo>
                <a:lnTo>
                  <a:pt x="165" y="142"/>
                </a:lnTo>
                <a:lnTo>
                  <a:pt x="28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8080" y="4597560"/>
            <a:ext cx="200160" cy="457200"/>
          </a:xfrm>
          <a:custGeom>
            <a:avLst/>
            <a:gdLst/>
            <a:ahLst/>
            <a:rect l="l" t="t" r="r" b="b"/>
            <a:pathLst>
              <a:path w="126" h="288">
                <a:moveTo>
                  <a:pt x="118" y="288"/>
                </a:moveTo>
                <a:lnTo>
                  <a:pt x="0" y="146"/>
                </a:lnTo>
                <a:lnTo>
                  <a:pt x="12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42120" y="464832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994120" y="4403880"/>
            <a:ext cx="222120" cy="20772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04960" y="1527120"/>
            <a:ext cx="222120" cy="208080"/>
          </a:xfrm>
          <a:custGeom>
            <a:avLst/>
            <a:gdLst/>
            <a:ahLst/>
            <a:rect l="l" t="t" r="r" b="b"/>
            <a:pathLst>
              <a:path w="140" h="131">
                <a:moveTo>
                  <a:pt x="0" y="131"/>
                </a:moveTo>
                <a:lnTo>
                  <a:pt x="14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3512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2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51604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6712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462276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3, parall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60368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807160" y="1916280"/>
            <a:ext cx="36648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669000" y="7318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4, collin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6649920" y="152244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39000" y="153828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39640" y="36450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5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563400" y="445788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4448160"/>
            <a:ext cx="75276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556000" y="368460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6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>
            <a:off x="2579760" y="3705120"/>
            <a:ext cx="1544400" cy="1563840"/>
          </a:xfrm>
          <a:custGeom>
            <a:avLst/>
            <a:gdLst/>
            <a:ahLst/>
            <a:rect l="l" t="t" r="r" b="b"/>
            <a:pathLst>
              <a:path w="973" h="985">
                <a:moveTo>
                  <a:pt x="0" y="985"/>
                </a:moveTo>
                <a:lnTo>
                  <a:pt x="97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8000" y="4076640"/>
            <a:ext cx="795240" cy="790560"/>
          </a:xfrm>
          <a:custGeom>
            <a:avLst/>
            <a:gdLst/>
            <a:ahLst/>
            <a:rect l="l" t="t" r="r" b="b"/>
            <a:pathLst>
              <a:path w="501" h="498">
                <a:moveTo>
                  <a:pt x="0" y="0"/>
                </a:moveTo>
                <a:lnTo>
                  <a:pt x="501" y="49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7-16T20:41:20Z</dcterms:modified>
  <cp:revision>55</cp:revision>
  <dc:subject/>
  <dc:title>Slide 1</dc:title>
</cp:coreProperties>
</file>